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BD0D21C-B014-4D3F-BDBD-C1DB58755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34800" indent="0">
              <a:lnSpc>
                <a:spcPct val="100000"/>
              </a:lnSpc>
              <a:spcBef>
                <a:spcPts val="720"/>
              </a:spcBef>
              <a:buNone/>
              <a:tabLst>
                <a:tab algn="l" pos="351000"/>
              </a:tabLst>
            </a:pPr>
            <a:r>
              <a:rPr b="1" lang="en-US" sz="1200" spc="-1" strike="noStrike">
                <a:solidFill>
                  <a:srgbClr val="000000"/>
                </a:solidFill>
                <a:latin typeface="Times Cyr"/>
                <a:ea typeface="Times Cyr"/>
              </a:rPr>
              <a:t>Purpose of This Ministry Session—People will:</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Realize God’s call to total sexual purity.</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Become aware of areas of bondage where God wants to set them free.</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Understand the significance of soul ties and God’s desire to free them.</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Receive faith for what God wants to do through a brief testimony.</a:t>
            </a:r>
            <a:endParaRPr b="0" lang="en-US" sz="1200" spc="-1" strike="noStrike">
              <a:solidFill>
                <a:srgbClr val="000000"/>
              </a:solidFill>
              <a:latin typeface="Arial"/>
            </a:endParaRPr>
          </a:p>
          <a:p>
            <a:pPr marL="334800" indent="0">
              <a:lnSpc>
                <a:spcPct val="100000"/>
              </a:lnSpc>
              <a:spcBef>
                <a:spcPts val="720"/>
              </a:spcBef>
              <a:buNone/>
              <a:tabLst>
                <a:tab algn="l" pos="351000"/>
              </a:tabLst>
            </a:pPr>
            <a:endParaRPr b="0" lang="en-US" sz="1200" spc="-1" strike="noStrike">
              <a:solidFill>
                <a:srgbClr val="000000"/>
              </a:solidFill>
              <a:latin typeface="Arial"/>
            </a:endParaRPr>
          </a:p>
          <a:p>
            <a:pPr marL="334800" indent="0">
              <a:lnSpc>
                <a:spcPct val="100000"/>
              </a:lnSpc>
              <a:spcBef>
                <a:spcPts val="720"/>
              </a:spcBef>
              <a:buNone/>
              <a:tabLst>
                <a:tab algn="l" pos="351000"/>
              </a:tabLst>
            </a:pPr>
            <a:r>
              <a:rPr b="1" lang="en-US" sz="1200" spc="-1" strike="noStrike">
                <a:solidFill>
                  <a:srgbClr val="000000"/>
                </a:solidFill>
                <a:latin typeface="Times Cyr"/>
                <a:ea typeface="Times Cyr"/>
              </a:rPr>
              <a:t>Note!</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The teaching portion of this session should be fairly short.</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10-15 minutes teaching on impurity and purity.</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5 minutes for a brief testimony.</a:t>
            </a:r>
            <a:endParaRPr b="0" lang="en-US" sz="1200" spc="-1" strike="noStrike">
              <a:solidFill>
                <a:srgbClr val="000000"/>
              </a:solidFill>
              <a:latin typeface="Arial"/>
            </a:endParaRPr>
          </a:p>
          <a:p>
            <a:pPr marL="334800" indent="0">
              <a:lnSpc>
                <a:spcPct val="100000"/>
              </a:lnSpc>
              <a:spcBef>
                <a:spcPts val="720"/>
              </a:spcBef>
              <a:buNone/>
              <a:tabLst>
                <a:tab algn="l" pos="35100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It is important to follow the guidelines above, in order to allow 25-30 minutes for ministr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It is helpful to cut ties to people by name if you can be that open. If you had sex with your wife before marriage that tie should also cut.</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Read the Scriptu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Total freedom is available to us through Christ’s shed bloo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f you watch soap operas or other trashy television are you willing to repent of thi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f you are currently in bondage in an area such as pornography or if you watch videos that have sex in them, consider if are you willing to throw away these item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f internet pornography is a snare for you, are you willing to have someone install software to remove this temptation? Do you need someone to share with to help you and to hold you accountabl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Do you want Christ’s freedom in this area of your lif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If there are both men and women at your retreat, have them separate into their ministry groups BEFORE they review this section to check the areas that apply. (That way individuals can be listening to the Spirit as they complete this rather than wondering if their spouse is watching what they check.) If you are having an Encounter for just men or women the can stay where they are to complete thi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Encourage people where possible to write the names of specific people they may have soul ties to in the margins of their inventory so that these ties can be specifically cut. If they can’t remember persons’ names, they can put down something like “the girl at the fraternity party” or “the neighbor who sexual abused 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If there are both men and women at your retreat, have them separate into their ministry groups BEFORE they review this section to check the areas that apply. (That way individuals can be listening to the Spirit as they complete this rather than wondering if their spouse is watching what they check.) If you are having an Encounter for just men or women the can stay where they are to complete thi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Encourage people where possible to write the names of specific people they may have soul ties to in the margins of their inventory so that these ties can be specifically cut. If they can’t remember persons’ names, they can put down something like “the girl at the fraternity party” or “the neighbor who sexual abused 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The person giving the testimony should not go into vivid details about their sin. The emphasis should be on the freedom that God has brought in their lif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These are areas where Satan commonly brings bondage through sexual sins. As you minister, you can claim authority over the ones that apply and cast them away.</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Title Slide to display as people gather for the teaching time and at the onset of the se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Sex and our sexuality were created by God. They are lovely and good, yet we can use them wrongly.</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A simple illustration or word picture to make the poi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God calls us to total holiness in every area of our life. He is not just concerned for purity of actions. He also calls us to holiness in our attitudes and in our thoughts.</a:t>
            </a:r>
            <a:endParaRPr b="0" lang="en-US" sz="14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Read the Scriptur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Part of our purity is guarding what we look at in terms of literature, movies and television. This is made clear in God’s Wor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How pure does God want us to be? Totally pure!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Why? Because he loves us. Because wants us to be free and to share his character.</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Read the Scriptu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Many Christians today wonder why they do not have peace in their lives and in their families. Yet they allow many vile things into their minds and their home through entertainment and the media.</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When we guard our minds and focus on the positive, the pure and the powerful things, God promises us peace.</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You may say, “But I must be up-to-date on the latest movies and television shows that my co-workers or classmates are watching!” This is like a doctor saying, “I should get sick so that I can better heal people.” This is rationalizati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t is a lie from hell. In fact, it is Satan’s original lie to Eve in the garden, saying that we must have personal knowledge of good and evil.</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God’s Word makes it clear that we are to be innocent and pure regarding evil.</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Satan is delighted when we fill our minds with his lies and half-truths through what we watch and read.</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Scripture is clea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There is not to be even a HINT of impurity.</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Sexual union creates a oneness, the Bible say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The power of soul ties must be understood to receive and minister freedom.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Soul ties created through impure sex create spiritual and emotional bondage that demonic forces often use as entry point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65fb"/>
              </a:gs>
              <a:gs pos="100000">
                <a:srgbClr val="14286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264c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264c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264c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264cbc"/>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04920" y="762120"/>
            <a:ext cx="8534520" cy="1704600"/>
          </a:xfrm>
          <a:prstGeom prst="rect">
            <a:avLst/>
          </a:prstGeom>
          <a:noFill/>
          <a:ln w="0">
            <a:noFill/>
          </a:ln>
        </p:spPr>
        <p:txBody>
          <a:bodyPr lIns="0" rIns="0" tIns="0" bIns="0" anchor="t">
            <a:noAutofit/>
          </a:bodyPr>
          <a:p>
            <a:pPr algn="ctr">
              <a:lnSpc>
                <a:spcPct val="100000"/>
              </a:lnSpc>
            </a:pPr>
            <a:r>
              <a:rPr b="1" lang="en-US" sz="6000" spc="-1" strike="noStrike">
                <a:solidFill>
                  <a:srgbClr val="fafd00"/>
                </a:solidFill>
                <a:latin typeface="Arial Cyr"/>
                <a:ea typeface="Arial Cyr"/>
              </a:rPr>
              <a:t>От нечистоты к чистоте</a:t>
            </a:r>
            <a:endParaRPr b="0" lang="en-US" sz="6000" spc="-1" strike="noStrike">
              <a:solidFill>
                <a:srgbClr val="000000"/>
              </a:solidFill>
              <a:latin typeface="Arial"/>
            </a:endParaRPr>
          </a:p>
        </p:txBody>
      </p:sp>
      <p:sp>
        <p:nvSpPr>
          <p:cNvPr id="51" name=""/>
          <p:cNvSpPr txBox="1"/>
          <p:nvPr/>
        </p:nvSpPr>
        <p:spPr>
          <a:xfrm>
            <a:off x="533520" y="2362320"/>
            <a:ext cx="8153280" cy="1752480"/>
          </a:xfrm>
          <a:prstGeom prst="rect">
            <a:avLst/>
          </a:prstGeom>
          <a:noFill/>
          <a:ln w="0">
            <a:noFill/>
          </a:ln>
        </p:spPr>
        <p:txBody>
          <a:bodyPr lIns="0" rIns="0" tIns="0" bIns="0" anchor="t">
            <a:noAutofit/>
          </a:bodyPr>
          <a:p>
            <a:pPr algn="ctr">
              <a:lnSpc>
                <a:spcPct val="100000"/>
              </a:lnSpc>
              <a:spcBef>
                <a:spcPts val="479"/>
              </a:spcBef>
            </a:pPr>
            <a:r>
              <a:rPr b="1" lang="en-US" sz="4400" spc="-1" strike="noStrike">
                <a:solidFill>
                  <a:srgbClr val="ffffff"/>
                </a:solidFill>
                <a:latin typeface="Arial Cyr"/>
                <a:ea typeface="Arial Cyr"/>
              </a:rPr>
              <a:t>Семинар “Встреча с Богом”</a:t>
            </a:r>
            <a:endParaRPr b="0" lang="en-US" sz="4400" spc="-1" strike="noStrike">
              <a:solidFill>
                <a:srgbClr val="000000"/>
              </a:solidFill>
              <a:latin typeface="Arial"/>
            </a:endParaRPr>
          </a:p>
          <a:p>
            <a:pPr algn="ctr">
              <a:lnSpc>
                <a:spcPct val="100000"/>
              </a:lnSpc>
              <a:spcBef>
                <a:spcPts val="479"/>
              </a:spcBef>
            </a:pPr>
            <a:r>
              <a:rPr b="1" lang="en-US" sz="4400" spc="-1" strike="noStrike">
                <a:solidFill>
                  <a:srgbClr val="ffffff"/>
                </a:solidFill>
                <a:latin typeface="Arial Cyr"/>
                <a:ea typeface="Arial Cyr"/>
              </a:rPr>
              <a:t>Четвертая сессия</a:t>
            </a:r>
            <a:endParaRPr b="0" lang="en-US" sz="4400" spc="-1" strike="noStrike">
              <a:solidFill>
                <a:srgbClr val="000000"/>
              </a:solidFill>
              <a:latin typeface="Arial"/>
            </a:endParaRPr>
          </a:p>
        </p:txBody>
      </p:sp>
      <p:sp>
        <p:nvSpPr>
          <p:cNvPr id="52" name=""/>
          <p:cNvSpPr txBox="1"/>
          <p:nvPr/>
        </p:nvSpPr>
        <p:spPr>
          <a:xfrm>
            <a:off x="990720" y="4497480"/>
            <a:ext cx="7467480" cy="22860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Cyr"/>
                <a:ea typeface="Arial Cyr"/>
              </a:rPr>
              <a:t>Copyright © 1999 TOUCH Outreach Ministries.</a:t>
            </a:r>
            <a:endParaRPr b="0" lang="en-US" sz="2400" spc="-1" strike="noStrike">
              <a:solidFill>
                <a:srgbClr val="000000"/>
              </a:solidFill>
              <a:latin typeface="Arial"/>
            </a:endParaRPr>
          </a:p>
          <a:p>
            <a:pPr algn="ctr">
              <a:lnSpc>
                <a:spcPct val="100000"/>
              </a:lnSpc>
            </a:pPr>
            <a:r>
              <a:rPr b="0" lang="en-US" sz="2000" spc="-1" strike="noStrike">
                <a:solidFill>
                  <a:srgbClr val="ffffff"/>
                </a:solidFill>
                <a:latin typeface="Arial Cyr"/>
                <a:ea typeface="Arial Cyr"/>
              </a:rPr>
              <a:t>Лидеры церквей, использующие материалы семинара</a:t>
            </a:r>
            <a:br>
              <a:rPr sz="2000"/>
            </a:br>
            <a:r>
              <a:rPr b="0" lang="en-US" sz="2000" spc="-1" strike="noStrike">
                <a:solidFill>
                  <a:srgbClr val="ffffff"/>
                </a:solidFill>
                <a:latin typeface="Arial Cyr"/>
                <a:ea typeface="Arial Cyr"/>
              </a:rPr>
              <a:t>“Встреча с Богом”, подготовленные служением TOUCH могут использовать эту PowerPoint-презентацию в рамках своей поместной церкви. </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Arial Cyr"/>
                <a:ea typeface="Arial Cyr"/>
              </a:rPr>
              <a:t>Однако, никакая ее часть не может быть распространена за пределами вашей поместной церкв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228600"/>
            <a:ext cx="7772400" cy="153036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Cyr"/>
                <a:ea typeface="Arial Cyr"/>
              </a:rPr>
              <a:t>Обрезание душевных привязанностей</a:t>
            </a:r>
            <a:endParaRPr b="0" lang="en-US" sz="5400" spc="-1" strike="noStrike">
              <a:solidFill>
                <a:srgbClr val="000000"/>
              </a:solidFill>
              <a:latin typeface="Arial"/>
            </a:endParaRPr>
          </a:p>
        </p:txBody>
      </p:sp>
      <p:grpSp>
        <p:nvGrpSpPr>
          <p:cNvPr id="71" name=""/>
          <p:cNvGrpSpPr/>
          <p:nvPr/>
        </p:nvGrpSpPr>
        <p:grpSpPr>
          <a:xfrm>
            <a:off x="390600" y="1944720"/>
            <a:ext cx="2476800" cy="3494520"/>
            <a:chOff x="390600" y="1944720"/>
            <a:chExt cx="2476800" cy="3494520"/>
          </a:xfrm>
        </p:grpSpPr>
        <p:sp>
          <p:nvSpPr>
            <p:cNvPr id="72" name=""/>
            <p:cNvSpPr/>
            <p:nvPr/>
          </p:nvSpPr>
          <p:spPr>
            <a:xfrm>
              <a:off x="1913040" y="2332080"/>
              <a:ext cx="744840" cy="2956320"/>
            </a:xfrm>
            <a:custGeom>
              <a:avLst/>
              <a:gdLst/>
              <a:ahLst/>
              <a:rect l="0" t="0" r="r" b="b"/>
              <a:pathLst>
                <a:path w="2069" h="8212">
                  <a:moveTo>
                    <a:pt x="2069" y="8212"/>
                  </a:moveTo>
                  <a:lnTo>
                    <a:pt x="1487" y="5503"/>
                  </a:lnTo>
                  <a:lnTo>
                    <a:pt x="494" y="1215"/>
                  </a:lnTo>
                  <a:lnTo>
                    <a:pt x="174" y="0"/>
                  </a:lnTo>
                  <a:lnTo>
                    <a:pt x="0" y="104"/>
                  </a:lnTo>
                  <a:lnTo>
                    <a:pt x="181" y="876"/>
                  </a:lnTo>
                  <a:lnTo>
                    <a:pt x="276" y="1544"/>
                  </a:lnTo>
                  <a:lnTo>
                    <a:pt x="376" y="2396"/>
                  </a:lnTo>
                  <a:lnTo>
                    <a:pt x="1087" y="5304"/>
                  </a:lnTo>
                  <a:lnTo>
                    <a:pt x="1647" y="7258"/>
                  </a:lnTo>
                  <a:lnTo>
                    <a:pt x="2069" y="8212"/>
                  </a:lnTo>
                  <a:close/>
                </a:path>
              </a:pathLst>
            </a:custGeom>
            <a:solidFill>
              <a:srgbClr val="3f3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2038320" y="2276640"/>
              <a:ext cx="829080" cy="3162600"/>
            </a:xfrm>
            <a:custGeom>
              <a:avLst/>
              <a:gdLst/>
              <a:ahLst/>
              <a:rect l="0" t="0" r="r" b="b"/>
              <a:pathLst>
                <a:path w="2303" h="8785">
                  <a:moveTo>
                    <a:pt x="2303" y="8785"/>
                  </a:moveTo>
                  <a:lnTo>
                    <a:pt x="1545" y="5364"/>
                  </a:lnTo>
                  <a:lnTo>
                    <a:pt x="520" y="1179"/>
                  </a:lnTo>
                  <a:lnTo>
                    <a:pt x="198" y="0"/>
                  </a:lnTo>
                  <a:lnTo>
                    <a:pt x="0" y="543"/>
                  </a:lnTo>
                  <a:lnTo>
                    <a:pt x="196" y="848"/>
                  </a:lnTo>
                  <a:lnTo>
                    <a:pt x="294" y="1502"/>
                  </a:lnTo>
                  <a:lnTo>
                    <a:pt x="388" y="2537"/>
                  </a:lnTo>
                  <a:lnTo>
                    <a:pt x="1139" y="5330"/>
                  </a:lnTo>
                  <a:lnTo>
                    <a:pt x="1714" y="7325"/>
                  </a:lnTo>
                  <a:lnTo>
                    <a:pt x="2092" y="8292"/>
                  </a:lnTo>
                  <a:lnTo>
                    <a:pt x="2303" y="878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2071800" y="1974960"/>
              <a:ext cx="663840" cy="3218400"/>
            </a:xfrm>
            <a:custGeom>
              <a:avLst/>
              <a:gdLst/>
              <a:ahLst/>
              <a:rect l="0" t="0" r="r" b="b"/>
              <a:pathLst>
                <a:path w="1844" h="8940">
                  <a:moveTo>
                    <a:pt x="160" y="3864"/>
                  </a:moveTo>
                  <a:lnTo>
                    <a:pt x="1844" y="8940"/>
                  </a:lnTo>
                  <a:lnTo>
                    <a:pt x="1728" y="6542"/>
                  </a:lnTo>
                  <a:lnTo>
                    <a:pt x="1524" y="4653"/>
                  </a:lnTo>
                  <a:lnTo>
                    <a:pt x="1268" y="3271"/>
                  </a:lnTo>
                  <a:lnTo>
                    <a:pt x="808" y="1776"/>
                  </a:lnTo>
                  <a:lnTo>
                    <a:pt x="376" y="0"/>
                  </a:lnTo>
                  <a:lnTo>
                    <a:pt x="327" y="817"/>
                  </a:lnTo>
                  <a:lnTo>
                    <a:pt x="267" y="2058"/>
                  </a:lnTo>
                  <a:lnTo>
                    <a:pt x="0" y="2623"/>
                  </a:lnTo>
                  <a:lnTo>
                    <a:pt x="160" y="3864"/>
                  </a:lnTo>
                  <a:close/>
                </a:path>
              </a:pathLst>
            </a:custGeom>
            <a:solidFill>
              <a:srgbClr val="3f3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2166840" y="1944720"/>
              <a:ext cx="662400" cy="3368880"/>
            </a:xfrm>
            <a:custGeom>
              <a:avLst/>
              <a:gdLst/>
              <a:ahLst/>
              <a:rect l="0" t="0" r="r" b="b"/>
              <a:pathLst>
                <a:path w="1840" h="9358">
                  <a:moveTo>
                    <a:pt x="153" y="3691"/>
                  </a:moveTo>
                  <a:lnTo>
                    <a:pt x="1840" y="9358"/>
                  </a:lnTo>
                  <a:lnTo>
                    <a:pt x="1663" y="5948"/>
                  </a:lnTo>
                  <a:lnTo>
                    <a:pt x="1467" y="4409"/>
                  </a:lnTo>
                  <a:lnTo>
                    <a:pt x="1219" y="3153"/>
                  </a:lnTo>
                  <a:lnTo>
                    <a:pt x="778" y="1820"/>
                  </a:lnTo>
                  <a:lnTo>
                    <a:pt x="363" y="0"/>
                  </a:lnTo>
                  <a:lnTo>
                    <a:pt x="317" y="743"/>
                  </a:lnTo>
                  <a:lnTo>
                    <a:pt x="256" y="2076"/>
                  </a:lnTo>
                  <a:lnTo>
                    <a:pt x="0" y="1871"/>
                  </a:lnTo>
                  <a:lnTo>
                    <a:pt x="153" y="3691"/>
                  </a:lnTo>
                  <a:close/>
                </a:path>
              </a:pathLst>
            </a:custGeom>
            <a:solidFill>
              <a:srgbClr val="8f8f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2252520" y="2336760"/>
              <a:ext cx="594000" cy="2540520"/>
            </a:xfrm>
            <a:custGeom>
              <a:avLst/>
              <a:gdLst/>
              <a:ahLst/>
              <a:rect l="0" t="0" r="r" b="b"/>
              <a:pathLst>
                <a:path w="1650" h="7057">
                  <a:moveTo>
                    <a:pt x="94" y="4958"/>
                  </a:moveTo>
                  <a:lnTo>
                    <a:pt x="324" y="5901"/>
                  </a:lnTo>
                  <a:lnTo>
                    <a:pt x="328" y="1825"/>
                  </a:lnTo>
                  <a:lnTo>
                    <a:pt x="648" y="3011"/>
                  </a:lnTo>
                  <a:lnTo>
                    <a:pt x="983" y="4654"/>
                  </a:lnTo>
                  <a:lnTo>
                    <a:pt x="1314" y="5689"/>
                  </a:lnTo>
                  <a:lnTo>
                    <a:pt x="1650" y="7057"/>
                  </a:lnTo>
                  <a:lnTo>
                    <a:pt x="1419" y="5231"/>
                  </a:lnTo>
                  <a:lnTo>
                    <a:pt x="1130" y="3741"/>
                  </a:lnTo>
                  <a:lnTo>
                    <a:pt x="610" y="2129"/>
                  </a:lnTo>
                  <a:lnTo>
                    <a:pt x="124" y="0"/>
                  </a:lnTo>
                  <a:lnTo>
                    <a:pt x="71" y="881"/>
                  </a:lnTo>
                  <a:lnTo>
                    <a:pt x="0" y="2464"/>
                  </a:lnTo>
                  <a:lnTo>
                    <a:pt x="49" y="3984"/>
                  </a:lnTo>
                  <a:lnTo>
                    <a:pt x="94" y="4958"/>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1774800" y="3363840"/>
              <a:ext cx="262440" cy="332280"/>
            </a:xfrm>
            <a:custGeom>
              <a:avLst/>
              <a:gdLst/>
              <a:ahLst/>
              <a:rect l="0" t="0" r="r" b="b"/>
              <a:pathLst>
                <a:path w="729" h="923">
                  <a:moveTo>
                    <a:pt x="707" y="246"/>
                  </a:moveTo>
                  <a:lnTo>
                    <a:pt x="91" y="119"/>
                  </a:lnTo>
                  <a:lnTo>
                    <a:pt x="79" y="923"/>
                  </a:lnTo>
                  <a:lnTo>
                    <a:pt x="0" y="881"/>
                  </a:lnTo>
                  <a:lnTo>
                    <a:pt x="82" y="545"/>
                  </a:lnTo>
                  <a:lnTo>
                    <a:pt x="79" y="0"/>
                  </a:lnTo>
                  <a:lnTo>
                    <a:pt x="729" y="258"/>
                  </a:lnTo>
                  <a:lnTo>
                    <a:pt x="707" y="24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1868400" y="3295800"/>
              <a:ext cx="138600" cy="705240"/>
            </a:xfrm>
            <a:custGeom>
              <a:avLst/>
              <a:gdLst/>
              <a:ahLst/>
              <a:rect l="0" t="0" r="r" b="b"/>
              <a:pathLst>
                <a:path w="385" h="1959">
                  <a:moveTo>
                    <a:pt x="385" y="1959"/>
                  </a:moveTo>
                  <a:lnTo>
                    <a:pt x="195" y="1183"/>
                  </a:lnTo>
                  <a:lnTo>
                    <a:pt x="83" y="406"/>
                  </a:lnTo>
                  <a:lnTo>
                    <a:pt x="0" y="0"/>
                  </a:lnTo>
                  <a:lnTo>
                    <a:pt x="26" y="665"/>
                  </a:lnTo>
                  <a:lnTo>
                    <a:pt x="385" y="19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 name=""/>
            <p:cNvSpPr/>
            <p:nvPr/>
          </p:nvSpPr>
          <p:spPr>
            <a:xfrm>
              <a:off x="1552680" y="3389400"/>
              <a:ext cx="180000" cy="179640"/>
            </a:xfrm>
            <a:custGeom>
              <a:avLst/>
              <a:gdLst/>
              <a:ahLst/>
              <a:rect l="0" t="0" r="r" b="b"/>
              <a:pathLst>
                <a:path w="500" h="499">
                  <a:moveTo>
                    <a:pt x="319" y="10"/>
                  </a:moveTo>
                  <a:lnTo>
                    <a:pt x="319" y="10"/>
                  </a:lnTo>
                  <a:cubicBezTo>
                    <a:pt x="277" y="-2"/>
                    <a:pt x="233" y="-3"/>
                    <a:pt x="190" y="8"/>
                  </a:cubicBezTo>
                  <a:cubicBezTo>
                    <a:pt x="147" y="18"/>
                    <a:pt x="108" y="40"/>
                    <a:pt x="77" y="70"/>
                  </a:cubicBezTo>
                  <a:cubicBezTo>
                    <a:pt x="45" y="101"/>
                    <a:pt x="22" y="139"/>
                    <a:pt x="10" y="181"/>
                  </a:cubicBezTo>
                  <a:cubicBezTo>
                    <a:pt x="-2" y="223"/>
                    <a:pt x="-3" y="268"/>
                    <a:pt x="8" y="310"/>
                  </a:cubicBezTo>
                  <a:cubicBezTo>
                    <a:pt x="18" y="353"/>
                    <a:pt x="40" y="392"/>
                    <a:pt x="71" y="423"/>
                  </a:cubicBezTo>
                  <a:cubicBezTo>
                    <a:pt x="101" y="455"/>
                    <a:pt x="139" y="478"/>
                    <a:pt x="182" y="490"/>
                  </a:cubicBezTo>
                  <a:lnTo>
                    <a:pt x="182" y="490"/>
                  </a:lnTo>
                  <a:lnTo>
                    <a:pt x="182" y="490"/>
                  </a:lnTo>
                  <a:cubicBezTo>
                    <a:pt x="224" y="502"/>
                    <a:pt x="268" y="503"/>
                    <a:pt x="311" y="492"/>
                  </a:cubicBezTo>
                  <a:cubicBezTo>
                    <a:pt x="354" y="482"/>
                    <a:pt x="393" y="460"/>
                    <a:pt x="424" y="430"/>
                  </a:cubicBezTo>
                  <a:cubicBezTo>
                    <a:pt x="456" y="399"/>
                    <a:pt x="479" y="361"/>
                    <a:pt x="491" y="319"/>
                  </a:cubicBezTo>
                  <a:cubicBezTo>
                    <a:pt x="503" y="277"/>
                    <a:pt x="504" y="232"/>
                    <a:pt x="493" y="190"/>
                  </a:cubicBezTo>
                  <a:cubicBezTo>
                    <a:pt x="483" y="147"/>
                    <a:pt x="461" y="108"/>
                    <a:pt x="430" y="77"/>
                  </a:cubicBezTo>
                  <a:cubicBezTo>
                    <a:pt x="400" y="45"/>
                    <a:pt x="362" y="22"/>
                    <a:pt x="319" y="10"/>
                  </a:cubicBez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1563480" y="3392640"/>
              <a:ext cx="180000" cy="179640"/>
            </a:xfrm>
            <a:custGeom>
              <a:avLst/>
              <a:gdLst/>
              <a:ahLst/>
              <a:rect l="0" t="0" r="r" b="b"/>
              <a:pathLst>
                <a:path w="500" h="499">
                  <a:moveTo>
                    <a:pt x="319" y="10"/>
                  </a:moveTo>
                  <a:lnTo>
                    <a:pt x="319" y="10"/>
                  </a:lnTo>
                  <a:cubicBezTo>
                    <a:pt x="277" y="-2"/>
                    <a:pt x="233" y="-3"/>
                    <a:pt x="190" y="8"/>
                  </a:cubicBezTo>
                  <a:cubicBezTo>
                    <a:pt x="147" y="18"/>
                    <a:pt x="108" y="40"/>
                    <a:pt x="77" y="70"/>
                  </a:cubicBezTo>
                  <a:cubicBezTo>
                    <a:pt x="45" y="101"/>
                    <a:pt x="22" y="139"/>
                    <a:pt x="10" y="181"/>
                  </a:cubicBezTo>
                  <a:cubicBezTo>
                    <a:pt x="-2" y="223"/>
                    <a:pt x="-3" y="268"/>
                    <a:pt x="8" y="310"/>
                  </a:cubicBezTo>
                  <a:cubicBezTo>
                    <a:pt x="18" y="353"/>
                    <a:pt x="40" y="392"/>
                    <a:pt x="71" y="423"/>
                  </a:cubicBezTo>
                  <a:cubicBezTo>
                    <a:pt x="101" y="455"/>
                    <a:pt x="139" y="478"/>
                    <a:pt x="182" y="490"/>
                  </a:cubicBezTo>
                  <a:lnTo>
                    <a:pt x="182" y="490"/>
                  </a:lnTo>
                  <a:lnTo>
                    <a:pt x="182" y="490"/>
                  </a:lnTo>
                  <a:cubicBezTo>
                    <a:pt x="224" y="502"/>
                    <a:pt x="268" y="503"/>
                    <a:pt x="311" y="492"/>
                  </a:cubicBezTo>
                  <a:cubicBezTo>
                    <a:pt x="354" y="482"/>
                    <a:pt x="393" y="460"/>
                    <a:pt x="424" y="430"/>
                  </a:cubicBezTo>
                  <a:cubicBezTo>
                    <a:pt x="456" y="399"/>
                    <a:pt x="479" y="361"/>
                    <a:pt x="491" y="319"/>
                  </a:cubicBezTo>
                  <a:cubicBezTo>
                    <a:pt x="503" y="277"/>
                    <a:pt x="504" y="232"/>
                    <a:pt x="493" y="190"/>
                  </a:cubicBezTo>
                  <a:cubicBezTo>
                    <a:pt x="483" y="147"/>
                    <a:pt x="461" y="108"/>
                    <a:pt x="430" y="77"/>
                  </a:cubicBezTo>
                  <a:cubicBezTo>
                    <a:pt x="400" y="45"/>
                    <a:pt x="362" y="22"/>
                    <a:pt x="319" y="10"/>
                  </a:cubicBez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1563480" y="3392640"/>
              <a:ext cx="180000" cy="179640"/>
            </a:xfrm>
            <a:custGeom>
              <a:avLst/>
              <a:gdLst/>
              <a:ahLst/>
              <a:rect l="0" t="0" r="r" b="b"/>
              <a:pathLst>
                <a:path w="500" h="499">
                  <a:moveTo>
                    <a:pt x="319" y="10"/>
                  </a:moveTo>
                  <a:lnTo>
                    <a:pt x="319" y="10"/>
                  </a:lnTo>
                  <a:cubicBezTo>
                    <a:pt x="277" y="-2"/>
                    <a:pt x="233" y="-3"/>
                    <a:pt x="190" y="8"/>
                  </a:cubicBezTo>
                  <a:cubicBezTo>
                    <a:pt x="147" y="18"/>
                    <a:pt x="108" y="40"/>
                    <a:pt x="77" y="70"/>
                  </a:cubicBezTo>
                  <a:cubicBezTo>
                    <a:pt x="45" y="101"/>
                    <a:pt x="22" y="139"/>
                    <a:pt x="10" y="181"/>
                  </a:cubicBezTo>
                  <a:cubicBezTo>
                    <a:pt x="-2" y="223"/>
                    <a:pt x="-3" y="268"/>
                    <a:pt x="8" y="310"/>
                  </a:cubicBezTo>
                  <a:cubicBezTo>
                    <a:pt x="18" y="353"/>
                    <a:pt x="40" y="392"/>
                    <a:pt x="71" y="423"/>
                  </a:cubicBezTo>
                  <a:cubicBezTo>
                    <a:pt x="101" y="455"/>
                    <a:pt x="139" y="478"/>
                    <a:pt x="182" y="490"/>
                  </a:cubicBezTo>
                  <a:lnTo>
                    <a:pt x="182" y="490"/>
                  </a:lnTo>
                  <a:lnTo>
                    <a:pt x="182" y="490"/>
                  </a:lnTo>
                  <a:cubicBezTo>
                    <a:pt x="224" y="502"/>
                    <a:pt x="268" y="503"/>
                    <a:pt x="311" y="492"/>
                  </a:cubicBezTo>
                  <a:cubicBezTo>
                    <a:pt x="354" y="482"/>
                    <a:pt x="393" y="460"/>
                    <a:pt x="424" y="430"/>
                  </a:cubicBezTo>
                  <a:cubicBezTo>
                    <a:pt x="456" y="399"/>
                    <a:pt x="479" y="361"/>
                    <a:pt x="491" y="319"/>
                  </a:cubicBezTo>
                  <a:cubicBezTo>
                    <a:pt x="503" y="277"/>
                    <a:pt x="504" y="232"/>
                    <a:pt x="493" y="190"/>
                  </a:cubicBezTo>
                  <a:cubicBezTo>
                    <a:pt x="483" y="147"/>
                    <a:pt x="461" y="108"/>
                    <a:pt x="430" y="77"/>
                  </a:cubicBezTo>
                  <a:cubicBezTo>
                    <a:pt x="400" y="45"/>
                    <a:pt x="362" y="22"/>
                    <a:pt x="319" y="10"/>
                  </a:cubicBez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623960" y="3486240"/>
              <a:ext cx="109800" cy="82800"/>
            </a:xfrm>
            <a:custGeom>
              <a:avLst/>
              <a:gdLst/>
              <a:ahLst/>
              <a:rect l="0" t="0" r="r" b="b"/>
              <a:pathLst>
                <a:path w="305" h="230">
                  <a:moveTo>
                    <a:pt x="0" y="230"/>
                  </a:moveTo>
                  <a:lnTo>
                    <a:pt x="0" y="230"/>
                  </a:lnTo>
                  <a:lnTo>
                    <a:pt x="187" y="204"/>
                  </a:lnTo>
                  <a:lnTo>
                    <a:pt x="280" y="69"/>
                  </a:lnTo>
                  <a:lnTo>
                    <a:pt x="305" y="0"/>
                  </a:lnTo>
                  <a:lnTo>
                    <a:pt x="34" y="4"/>
                  </a:lnTo>
                  <a:lnTo>
                    <a:pt x="0" y="230"/>
                  </a:lnTo>
                  <a:close/>
                </a:path>
              </a:pathLst>
            </a:custGeom>
            <a:solidFill>
              <a:srgbClr val="80808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83" name=""/>
            <p:cNvSpPr/>
            <p:nvPr/>
          </p:nvSpPr>
          <p:spPr>
            <a:xfrm>
              <a:off x="1555920" y="3398760"/>
              <a:ext cx="97200" cy="82800"/>
            </a:xfrm>
            <a:custGeom>
              <a:avLst/>
              <a:gdLst/>
              <a:ahLst/>
              <a:rect l="0" t="0" r="r" b="b"/>
              <a:pathLst>
                <a:path w="270" h="230">
                  <a:moveTo>
                    <a:pt x="270" y="0"/>
                  </a:moveTo>
                  <a:lnTo>
                    <a:pt x="270" y="0"/>
                  </a:lnTo>
                  <a:lnTo>
                    <a:pt x="115" y="27"/>
                  </a:lnTo>
                  <a:lnTo>
                    <a:pt x="11" y="161"/>
                  </a:lnTo>
                  <a:lnTo>
                    <a:pt x="0" y="198"/>
                  </a:lnTo>
                  <a:lnTo>
                    <a:pt x="211" y="230"/>
                  </a:lnTo>
                  <a:lnTo>
                    <a:pt x="270" y="0"/>
                  </a:lnTo>
                  <a:close/>
                </a:path>
              </a:pathLst>
            </a:custGeom>
            <a:solidFill>
              <a:srgbClr val="c0c0c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84" name=""/>
            <p:cNvSpPr/>
            <p:nvPr/>
          </p:nvSpPr>
          <p:spPr>
            <a:xfrm>
              <a:off x="1609560" y="3395520"/>
              <a:ext cx="97200" cy="152640"/>
            </a:xfrm>
            <a:custGeom>
              <a:avLst/>
              <a:gdLst/>
              <a:ahLst/>
              <a:rect l="0" t="0" r="r" b="b"/>
              <a:pathLst>
                <a:path w="270" h="424">
                  <a:moveTo>
                    <a:pt x="255" y="0"/>
                  </a:moveTo>
                  <a:lnTo>
                    <a:pt x="7" y="287"/>
                  </a:lnTo>
                  <a:lnTo>
                    <a:pt x="0" y="390"/>
                  </a:lnTo>
                  <a:lnTo>
                    <a:pt x="22" y="424"/>
                  </a:lnTo>
                  <a:lnTo>
                    <a:pt x="265" y="218"/>
                  </a:lnTo>
                  <a:lnTo>
                    <a:pt x="270" y="125"/>
                  </a:lnTo>
                  <a:lnTo>
                    <a:pt x="255"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03440" y="3432240"/>
              <a:ext cx="68760" cy="124200"/>
            </a:xfrm>
            <a:custGeom>
              <a:avLst/>
              <a:gdLst/>
              <a:ahLst/>
              <a:rect l="0" t="0" r="r" b="b"/>
              <a:pathLst>
                <a:path w="191" h="345">
                  <a:moveTo>
                    <a:pt x="0" y="181"/>
                  </a:moveTo>
                  <a:lnTo>
                    <a:pt x="17" y="230"/>
                  </a:lnTo>
                  <a:lnTo>
                    <a:pt x="191" y="0"/>
                  </a:lnTo>
                  <a:lnTo>
                    <a:pt x="13" y="345"/>
                  </a:lnTo>
                  <a:lnTo>
                    <a:pt x="0" y="18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362240" y="3422520"/>
              <a:ext cx="167040" cy="68760"/>
            </a:xfrm>
            <a:custGeom>
              <a:avLst/>
              <a:gdLst/>
              <a:ahLst/>
              <a:rect l="0" t="0" r="r" b="b"/>
              <a:pathLst>
                <a:path w="464" h="191">
                  <a:moveTo>
                    <a:pt x="464" y="8"/>
                  </a:moveTo>
                  <a:lnTo>
                    <a:pt x="386" y="191"/>
                  </a:lnTo>
                  <a:lnTo>
                    <a:pt x="0" y="178"/>
                  </a:lnTo>
                  <a:lnTo>
                    <a:pt x="216" y="0"/>
                  </a:lnTo>
                  <a:lnTo>
                    <a:pt x="464" y="8"/>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87" name=""/>
            <p:cNvSpPr/>
            <p:nvPr/>
          </p:nvSpPr>
          <p:spPr>
            <a:xfrm>
              <a:off x="1362240" y="3422520"/>
              <a:ext cx="167040" cy="68760"/>
            </a:xfrm>
            <a:custGeom>
              <a:avLst/>
              <a:gdLst/>
              <a:ahLst/>
              <a:rect l="0" t="0" r="r" b="b"/>
              <a:pathLst>
                <a:path w="464" h="191">
                  <a:moveTo>
                    <a:pt x="464" y="8"/>
                  </a:moveTo>
                  <a:lnTo>
                    <a:pt x="386" y="191"/>
                  </a:lnTo>
                  <a:lnTo>
                    <a:pt x="0" y="178"/>
                  </a:lnTo>
                  <a:lnTo>
                    <a:pt x="216" y="0"/>
                  </a:lnTo>
                  <a:lnTo>
                    <a:pt x="464" y="8"/>
                  </a:lnTo>
                  <a:close/>
                </a:path>
              </a:pathLst>
            </a:custGeom>
            <a:solidFill>
              <a:srgbClr val="9f9f9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88" name=""/>
            <p:cNvSpPr/>
            <p:nvPr/>
          </p:nvSpPr>
          <p:spPr>
            <a:xfrm>
              <a:off x="390600" y="3068640"/>
              <a:ext cx="746640" cy="1202040"/>
            </a:xfrm>
            <a:custGeom>
              <a:avLst/>
              <a:gdLst/>
              <a:ahLst/>
              <a:rect l="0" t="0" r="r" b="b"/>
              <a:pathLst>
                <a:path w="2074" h="3339">
                  <a:moveTo>
                    <a:pt x="2074" y="1335"/>
                  </a:moveTo>
                  <a:lnTo>
                    <a:pt x="1936" y="1078"/>
                  </a:lnTo>
                  <a:lnTo>
                    <a:pt x="1858" y="682"/>
                  </a:lnTo>
                  <a:lnTo>
                    <a:pt x="1579" y="645"/>
                  </a:lnTo>
                  <a:lnTo>
                    <a:pt x="1369" y="601"/>
                  </a:lnTo>
                  <a:lnTo>
                    <a:pt x="1205" y="601"/>
                  </a:lnTo>
                  <a:lnTo>
                    <a:pt x="1095" y="506"/>
                  </a:lnTo>
                  <a:lnTo>
                    <a:pt x="999" y="293"/>
                  </a:lnTo>
                  <a:lnTo>
                    <a:pt x="913" y="220"/>
                  </a:lnTo>
                  <a:lnTo>
                    <a:pt x="806" y="124"/>
                  </a:lnTo>
                  <a:lnTo>
                    <a:pt x="697" y="36"/>
                  </a:lnTo>
                  <a:lnTo>
                    <a:pt x="603" y="22"/>
                  </a:lnTo>
                  <a:lnTo>
                    <a:pt x="487" y="0"/>
                  </a:lnTo>
                  <a:lnTo>
                    <a:pt x="385" y="44"/>
                  </a:lnTo>
                  <a:lnTo>
                    <a:pt x="278" y="154"/>
                  </a:lnTo>
                  <a:lnTo>
                    <a:pt x="187" y="344"/>
                  </a:lnTo>
                  <a:lnTo>
                    <a:pt x="159" y="388"/>
                  </a:lnTo>
                  <a:lnTo>
                    <a:pt x="119" y="550"/>
                  </a:lnTo>
                  <a:lnTo>
                    <a:pt x="70" y="777"/>
                  </a:lnTo>
                  <a:lnTo>
                    <a:pt x="59" y="902"/>
                  </a:lnTo>
                  <a:lnTo>
                    <a:pt x="46" y="1019"/>
                  </a:lnTo>
                  <a:lnTo>
                    <a:pt x="26" y="1210"/>
                  </a:lnTo>
                  <a:lnTo>
                    <a:pt x="13" y="1327"/>
                  </a:lnTo>
                  <a:lnTo>
                    <a:pt x="0" y="1445"/>
                  </a:lnTo>
                  <a:lnTo>
                    <a:pt x="10" y="1592"/>
                  </a:lnTo>
                  <a:lnTo>
                    <a:pt x="15" y="1732"/>
                  </a:lnTo>
                  <a:lnTo>
                    <a:pt x="26" y="1879"/>
                  </a:lnTo>
                  <a:lnTo>
                    <a:pt x="36" y="2018"/>
                  </a:lnTo>
                  <a:lnTo>
                    <a:pt x="52" y="2099"/>
                  </a:lnTo>
                  <a:lnTo>
                    <a:pt x="80" y="2253"/>
                  </a:lnTo>
                  <a:lnTo>
                    <a:pt x="132" y="2429"/>
                  </a:lnTo>
                  <a:lnTo>
                    <a:pt x="169" y="2524"/>
                  </a:lnTo>
                  <a:lnTo>
                    <a:pt x="205" y="2627"/>
                  </a:lnTo>
                  <a:lnTo>
                    <a:pt x="265" y="2744"/>
                  </a:lnTo>
                  <a:lnTo>
                    <a:pt x="323" y="2854"/>
                  </a:lnTo>
                  <a:lnTo>
                    <a:pt x="448" y="3031"/>
                  </a:lnTo>
                  <a:lnTo>
                    <a:pt x="592" y="3221"/>
                  </a:lnTo>
                  <a:lnTo>
                    <a:pt x="657" y="3273"/>
                  </a:lnTo>
                  <a:lnTo>
                    <a:pt x="717" y="2722"/>
                  </a:lnTo>
                  <a:lnTo>
                    <a:pt x="788" y="2715"/>
                  </a:lnTo>
                  <a:lnTo>
                    <a:pt x="861" y="2708"/>
                  </a:lnTo>
                  <a:lnTo>
                    <a:pt x="905" y="2744"/>
                  </a:lnTo>
                  <a:lnTo>
                    <a:pt x="955" y="2722"/>
                  </a:lnTo>
                  <a:lnTo>
                    <a:pt x="1004" y="2700"/>
                  </a:lnTo>
                  <a:lnTo>
                    <a:pt x="1054" y="2671"/>
                  </a:lnTo>
                  <a:lnTo>
                    <a:pt x="1103" y="2649"/>
                  </a:lnTo>
                  <a:lnTo>
                    <a:pt x="1161" y="2568"/>
                  </a:lnTo>
                  <a:lnTo>
                    <a:pt x="1218" y="2473"/>
                  </a:lnTo>
                  <a:lnTo>
                    <a:pt x="1247" y="2436"/>
                  </a:lnTo>
                  <a:lnTo>
                    <a:pt x="1252" y="2378"/>
                  </a:lnTo>
                  <a:lnTo>
                    <a:pt x="1288" y="2275"/>
                  </a:lnTo>
                  <a:lnTo>
                    <a:pt x="1301" y="2150"/>
                  </a:lnTo>
                  <a:lnTo>
                    <a:pt x="1286" y="2062"/>
                  </a:lnTo>
                  <a:lnTo>
                    <a:pt x="1299" y="1945"/>
                  </a:lnTo>
                  <a:lnTo>
                    <a:pt x="1288" y="1805"/>
                  </a:lnTo>
                  <a:lnTo>
                    <a:pt x="1278" y="1658"/>
                  </a:lnTo>
                  <a:lnTo>
                    <a:pt x="1249" y="1504"/>
                  </a:lnTo>
                  <a:lnTo>
                    <a:pt x="1221" y="1342"/>
                  </a:lnTo>
                  <a:lnTo>
                    <a:pt x="1197" y="1327"/>
                  </a:lnTo>
                  <a:lnTo>
                    <a:pt x="1161" y="1232"/>
                  </a:lnTo>
                  <a:lnTo>
                    <a:pt x="1101" y="1115"/>
                  </a:lnTo>
                  <a:lnTo>
                    <a:pt x="1043" y="997"/>
                  </a:lnTo>
                  <a:lnTo>
                    <a:pt x="978" y="939"/>
                  </a:lnTo>
                  <a:lnTo>
                    <a:pt x="918" y="829"/>
                  </a:lnTo>
                  <a:lnTo>
                    <a:pt x="853" y="770"/>
                  </a:lnTo>
                  <a:lnTo>
                    <a:pt x="788" y="718"/>
                  </a:lnTo>
                  <a:lnTo>
                    <a:pt x="746" y="682"/>
                  </a:lnTo>
                  <a:lnTo>
                    <a:pt x="681" y="630"/>
                  </a:lnTo>
                  <a:lnTo>
                    <a:pt x="631" y="645"/>
                  </a:lnTo>
                  <a:lnTo>
                    <a:pt x="566" y="594"/>
                  </a:lnTo>
                  <a:lnTo>
                    <a:pt x="516" y="616"/>
                  </a:lnTo>
                  <a:lnTo>
                    <a:pt x="464" y="645"/>
                  </a:lnTo>
                  <a:lnTo>
                    <a:pt x="414" y="667"/>
                  </a:lnTo>
                  <a:lnTo>
                    <a:pt x="357" y="755"/>
                  </a:lnTo>
                  <a:lnTo>
                    <a:pt x="325" y="858"/>
                  </a:lnTo>
                  <a:lnTo>
                    <a:pt x="289" y="961"/>
                  </a:lnTo>
                  <a:lnTo>
                    <a:pt x="252" y="1063"/>
                  </a:lnTo>
                  <a:lnTo>
                    <a:pt x="239" y="1181"/>
                  </a:lnTo>
                  <a:lnTo>
                    <a:pt x="226" y="1313"/>
                  </a:lnTo>
                  <a:lnTo>
                    <a:pt x="221" y="1371"/>
                  </a:lnTo>
                  <a:lnTo>
                    <a:pt x="213" y="1430"/>
                  </a:lnTo>
                  <a:lnTo>
                    <a:pt x="224" y="1577"/>
                  </a:lnTo>
                  <a:lnTo>
                    <a:pt x="216" y="1628"/>
                  </a:lnTo>
                  <a:lnTo>
                    <a:pt x="247" y="1798"/>
                  </a:lnTo>
                  <a:lnTo>
                    <a:pt x="255" y="1930"/>
                  </a:lnTo>
                  <a:lnTo>
                    <a:pt x="294" y="2033"/>
                  </a:lnTo>
                  <a:lnTo>
                    <a:pt x="307" y="2113"/>
                  </a:lnTo>
                  <a:lnTo>
                    <a:pt x="346" y="2209"/>
                  </a:lnTo>
                  <a:lnTo>
                    <a:pt x="424" y="2341"/>
                  </a:lnTo>
                  <a:lnTo>
                    <a:pt x="505" y="2480"/>
                  </a:lnTo>
                  <a:lnTo>
                    <a:pt x="571" y="2532"/>
                  </a:lnTo>
                  <a:lnTo>
                    <a:pt x="652" y="2664"/>
                  </a:lnTo>
                  <a:lnTo>
                    <a:pt x="717" y="2722"/>
                  </a:lnTo>
                  <a:lnTo>
                    <a:pt x="657" y="3273"/>
                  </a:lnTo>
                  <a:lnTo>
                    <a:pt x="723" y="3331"/>
                  </a:lnTo>
                  <a:lnTo>
                    <a:pt x="816" y="3339"/>
                  </a:lnTo>
                  <a:lnTo>
                    <a:pt x="939" y="3317"/>
                  </a:lnTo>
                  <a:lnTo>
                    <a:pt x="1030" y="3324"/>
                  </a:lnTo>
                  <a:lnTo>
                    <a:pt x="1082" y="3295"/>
                  </a:lnTo>
                  <a:lnTo>
                    <a:pt x="1132" y="3265"/>
                  </a:lnTo>
                  <a:lnTo>
                    <a:pt x="1189" y="3185"/>
                  </a:lnTo>
                  <a:lnTo>
                    <a:pt x="1239" y="3163"/>
                  </a:lnTo>
                  <a:lnTo>
                    <a:pt x="1268" y="3126"/>
                  </a:lnTo>
                  <a:lnTo>
                    <a:pt x="1325" y="3031"/>
                  </a:lnTo>
                  <a:lnTo>
                    <a:pt x="1385" y="2884"/>
                  </a:lnTo>
                  <a:lnTo>
                    <a:pt x="1421" y="2781"/>
                  </a:lnTo>
                  <a:lnTo>
                    <a:pt x="1468" y="2561"/>
                  </a:lnTo>
                  <a:lnTo>
                    <a:pt x="1489" y="2378"/>
                  </a:lnTo>
                  <a:lnTo>
                    <a:pt x="1515" y="2128"/>
                  </a:lnTo>
                  <a:lnTo>
                    <a:pt x="1513" y="1930"/>
                  </a:lnTo>
                  <a:lnTo>
                    <a:pt x="1489" y="1710"/>
                  </a:lnTo>
                  <a:lnTo>
                    <a:pt x="1463" y="1489"/>
                  </a:lnTo>
                  <a:lnTo>
                    <a:pt x="1458" y="1342"/>
                  </a:lnTo>
                  <a:lnTo>
                    <a:pt x="1440" y="1269"/>
                  </a:lnTo>
                  <a:lnTo>
                    <a:pt x="1471" y="1225"/>
                  </a:lnTo>
                  <a:lnTo>
                    <a:pt x="1497" y="1181"/>
                  </a:lnTo>
                  <a:lnTo>
                    <a:pt x="1546" y="1159"/>
                  </a:lnTo>
                  <a:lnTo>
                    <a:pt x="2074" y="1335"/>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684360" y="3743280"/>
              <a:ext cx="165600" cy="317880"/>
            </a:xfrm>
            <a:custGeom>
              <a:avLst/>
              <a:gdLst/>
              <a:ahLst/>
              <a:rect l="0" t="0" r="r" b="b"/>
              <a:pathLst>
                <a:path fill="none" w="460" h="883">
                  <a:moveTo>
                    <a:pt x="460" y="0"/>
                  </a:moveTo>
                  <a:lnTo>
                    <a:pt x="392" y="313"/>
                  </a:lnTo>
                  <a:lnTo>
                    <a:pt x="325" y="644"/>
                  </a:lnTo>
                  <a:lnTo>
                    <a:pt x="263" y="810"/>
                  </a:lnTo>
                  <a:lnTo>
                    <a:pt x="166" y="883"/>
                  </a:lnTo>
                  <a:lnTo>
                    <a:pt x="90" y="847"/>
                  </a:lnTo>
                  <a:lnTo>
                    <a:pt x="0" y="773"/>
                  </a:lnTo>
                </a:path>
              </a:pathLst>
            </a:custGeom>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76160" y="3003480"/>
              <a:ext cx="109800" cy="829080"/>
            </a:xfrm>
            <a:custGeom>
              <a:avLst/>
              <a:gdLst/>
              <a:ahLst/>
              <a:rect l="0" t="0" r="r" b="b"/>
              <a:pathLst>
                <a:path fill="none" w="305" h="2303">
                  <a:moveTo>
                    <a:pt x="305" y="2303"/>
                  </a:moveTo>
                  <a:lnTo>
                    <a:pt x="206" y="1953"/>
                  </a:lnTo>
                  <a:lnTo>
                    <a:pt x="174" y="2003"/>
                  </a:lnTo>
                  <a:lnTo>
                    <a:pt x="155" y="1753"/>
                  </a:lnTo>
                  <a:lnTo>
                    <a:pt x="136" y="1277"/>
                  </a:lnTo>
                  <a:lnTo>
                    <a:pt x="113" y="751"/>
                  </a:lnTo>
                  <a:lnTo>
                    <a:pt x="83" y="375"/>
                  </a:lnTo>
                  <a:lnTo>
                    <a:pt x="54" y="0"/>
                  </a:lnTo>
                  <a:lnTo>
                    <a:pt x="22" y="50"/>
                  </a:lnTo>
                  <a:lnTo>
                    <a:pt x="0" y="225"/>
                  </a:lnTo>
                </a:path>
              </a:pathLst>
            </a:custGeom>
            <a:ln w="12600">
              <a:solidFill>
                <a:srgbClr val="c0c0c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95440" y="2147760"/>
              <a:ext cx="663840" cy="1325880"/>
            </a:xfrm>
            <a:custGeom>
              <a:avLst/>
              <a:gdLst/>
              <a:ahLst/>
              <a:rect l="0" t="0" r="r" b="b"/>
              <a:pathLst>
                <a:path w="1844" h="3683">
                  <a:moveTo>
                    <a:pt x="1844" y="3543"/>
                  </a:moveTo>
                  <a:lnTo>
                    <a:pt x="1494" y="3683"/>
                  </a:lnTo>
                  <a:lnTo>
                    <a:pt x="1212" y="3551"/>
                  </a:lnTo>
                  <a:lnTo>
                    <a:pt x="845" y="3206"/>
                  </a:lnTo>
                  <a:lnTo>
                    <a:pt x="518" y="2890"/>
                  </a:lnTo>
                  <a:lnTo>
                    <a:pt x="178" y="2502"/>
                  </a:lnTo>
                  <a:lnTo>
                    <a:pt x="85" y="2348"/>
                  </a:lnTo>
                  <a:lnTo>
                    <a:pt x="53" y="2245"/>
                  </a:lnTo>
                  <a:lnTo>
                    <a:pt x="20" y="2150"/>
                  </a:lnTo>
                  <a:lnTo>
                    <a:pt x="13" y="2010"/>
                  </a:lnTo>
                  <a:lnTo>
                    <a:pt x="0" y="1937"/>
                  </a:lnTo>
                  <a:lnTo>
                    <a:pt x="11" y="1804"/>
                  </a:lnTo>
                  <a:lnTo>
                    <a:pt x="2" y="1665"/>
                  </a:lnTo>
                  <a:lnTo>
                    <a:pt x="13" y="1540"/>
                  </a:lnTo>
                  <a:lnTo>
                    <a:pt x="25" y="1422"/>
                  </a:lnTo>
                  <a:lnTo>
                    <a:pt x="37" y="1305"/>
                  </a:lnTo>
                  <a:lnTo>
                    <a:pt x="55" y="1122"/>
                  </a:lnTo>
                  <a:lnTo>
                    <a:pt x="85" y="1012"/>
                  </a:lnTo>
                  <a:lnTo>
                    <a:pt x="122" y="850"/>
                  </a:lnTo>
                  <a:lnTo>
                    <a:pt x="178" y="704"/>
                  </a:lnTo>
                  <a:lnTo>
                    <a:pt x="236" y="557"/>
                  </a:lnTo>
                  <a:lnTo>
                    <a:pt x="310" y="425"/>
                  </a:lnTo>
                  <a:lnTo>
                    <a:pt x="386" y="300"/>
                  </a:lnTo>
                  <a:lnTo>
                    <a:pt x="481" y="190"/>
                  </a:lnTo>
                  <a:lnTo>
                    <a:pt x="555" y="58"/>
                  </a:lnTo>
                  <a:lnTo>
                    <a:pt x="662" y="29"/>
                  </a:lnTo>
                  <a:lnTo>
                    <a:pt x="771" y="0"/>
                  </a:lnTo>
                  <a:lnTo>
                    <a:pt x="893" y="51"/>
                  </a:lnTo>
                  <a:lnTo>
                    <a:pt x="1010" y="154"/>
                  </a:lnTo>
                  <a:lnTo>
                    <a:pt x="1066" y="212"/>
                  </a:lnTo>
                  <a:lnTo>
                    <a:pt x="1015" y="762"/>
                  </a:lnTo>
                  <a:lnTo>
                    <a:pt x="1073" y="814"/>
                  </a:lnTo>
                  <a:lnTo>
                    <a:pt x="1165" y="968"/>
                  </a:lnTo>
                  <a:lnTo>
                    <a:pt x="1274" y="1144"/>
                  </a:lnTo>
                  <a:lnTo>
                    <a:pt x="1383" y="1305"/>
                  </a:lnTo>
                  <a:lnTo>
                    <a:pt x="1429" y="1488"/>
                  </a:lnTo>
                  <a:lnTo>
                    <a:pt x="1476" y="1665"/>
                  </a:lnTo>
                  <a:lnTo>
                    <a:pt x="1503" y="1826"/>
                  </a:lnTo>
                  <a:lnTo>
                    <a:pt x="1524" y="2047"/>
                  </a:lnTo>
                  <a:lnTo>
                    <a:pt x="1522" y="2304"/>
                  </a:lnTo>
                  <a:lnTo>
                    <a:pt x="1503" y="2494"/>
                  </a:lnTo>
                  <a:lnTo>
                    <a:pt x="1487" y="2678"/>
                  </a:lnTo>
                  <a:lnTo>
                    <a:pt x="1448" y="2839"/>
                  </a:lnTo>
                  <a:lnTo>
                    <a:pt x="1411" y="3008"/>
                  </a:lnTo>
                  <a:lnTo>
                    <a:pt x="1369" y="3030"/>
                  </a:lnTo>
                  <a:lnTo>
                    <a:pt x="1304" y="3037"/>
                  </a:lnTo>
                  <a:lnTo>
                    <a:pt x="1246" y="2978"/>
                  </a:lnTo>
                  <a:lnTo>
                    <a:pt x="1184" y="2986"/>
                  </a:lnTo>
                  <a:lnTo>
                    <a:pt x="1066" y="2876"/>
                  </a:lnTo>
                  <a:lnTo>
                    <a:pt x="905" y="2795"/>
                  </a:lnTo>
                  <a:lnTo>
                    <a:pt x="694" y="2590"/>
                  </a:lnTo>
                  <a:lnTo>
                    <a:pt x="521" y="2428"/>
                  </a:lnTo>
                  <a:lnTo>
                    <a:pt x="449" y="2289"/>
                  </a:lnTo>
                  <a:lnTo>
                    <a:pt x="370" y="2216"/>
                  </a:lnTo>
                  <a:lnTo>
                    <a:pt x="333" y="2179"/>
                  </a:lnTo>
                  <a:lnTo>
                    <a:pt x="282" y="2062"/>
                  </a:lnTo>
                  <a:lnTo>
                    <a:pt x="273" y="1922"/>
                  </a:lnTo>
                  <a:lnTo>
                    <a:pt x="259" y="1842"/>
                  </a:lnTo>
                  <a:lnTo>
                    <a:pt x="266" y="1782"/>
                  </a:lnTo>
                  <a:lnTo>
                    <a:pt x="263" y="1577"/>
                  </a:lnTo>
                  <a:lnTo>
                    <a:pt x="275" y="1459"/>
                  </a:lnTo>
                  <a:lnTo>
                    <a:pt x="282" y="1393"/>
                  </a:lnTo>
                  <a:lnTo>
                    <a:pt x="317" y="1232"/>
                  </a:lnTo>
                  <a:lnTo>
                    <a:pt x="347" y="1129"/>
                  </a:lnTo>
                  <a:lnTo>
                    <a:pt x="412" y="924"/>
                  </a:lnTo>
                  <a:lnTo>
                    <a:pt x="486" y="792"/>
                  </a:lnTo>
                  <a:lnTo>
                    <a:pt x="578" y="682"/>
                  </a:lnTo>
                  <a:lnTo>
                    <a:pt x="694" y="594"/>
                  </a:lnTo>
                  <a:lnTo>
                    <a:pt x="796" y="623"/>
                  </a:lnTo>
                  <a:lnTo>
                    <a:pt x="919" y="667"/>
                  </a:lnTo>
                  <a:lnTo>
                    <a:pt x="1015" y="762"/>
                  </a:lnTo>
                  <a:lnTo>
                    <a:pt x="1066" y="212"/>
                  </a:lnTo>
                  <a:lnTo>
                    <a:pt x="1124" y="264"/>
                  </a:lnTo>
                  <a:lnTo>
                    <a:pt x="1235" y="440"/>
                  </a:lnTo>
                  <a:lnTo>
                    <a:pt x="1351" y="550"/>
                  </a:lnTo>
                  <a:lnTo>
                    <a:pt x="1455" y="777"/>
                  </a:lnTo>
                  <a:lnTo>
                    <a:pt x="1540" y="990"/>
                  </a:lnTo>
                  <a:lnTo>
                    <a:pt x="1605" y="1188"/>
                  </a:lnTo>
                  <a:lnTo>
                    <a:pt x="1665" y="1444"/>
                  </a:lnTo>
                  <a:lnTo>
                    <a:pt x="1705" y="1687"/>
                  </a:lnTo>
                  <a:lnTo>
                    <a:pt x="1726" y="1900"/>
                  </a:lnTo>
                  <a:lnTo>
                    <a:pt x="1728" y="2106"/>
                  </a:lnTo>
                  <a:lnTo>
                    <a:pt x="1726" y="2370"/>
                  </a:lnTo>
                  <a:lnTo>
                    <a:pt x="1703" y="2612"/>
                  </a:lnTo>
                  <a:lnTo>
                    <a:pt x="1684" y="2795"/>
                  </a:lnTo>
                  <a:lnTo>
                    <a:pt x="1686" y="3000"/>
                  </a:lnTo>
                  <a:lnTo>
                    <a:pt x="1693" y="3133"/>
                  </a:lnTo>
                  <a:lnTo>
                    <a:pt x="1728" y="3235"/>
                  </a:lnTo>
                  <a:lnTo>
                    <a:pt x="1774" y="3419"/>
                  </a:lnTo>
                  <a:lnTo>
                    <a:pt x="1844" y="3543"/>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249200" y="3029040"/>
              <a:ext cx="125640" cy="359280"/>
            </a:xfrm>
            <a:custGeom>
              <a:avLst/>
              <a:gdLst/>
              <a:ahLst/>
              <a:rect l="0" t="0" r="r" b="b"/>
              <a:pathLst>
                <a:path fill="none" w="349" h="998">
                  <a:moveTo>
                    <a:pt x="349" y="0"/>
                  </a:moveTo>
                  <a:lnTo>
                    <a:pt x="129" y="998"/>
                  </a:lnTo>
                  <a:lnTo>
                    <a:pt x="0" y="577"/>
                  </a:lnTo>
                </a:path>
              </a:pathLst>
            </a:custGeom>
            <a:ln w="12600">
              <a:solidFill>
                <a:srgbClr val="c0c0c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833400" y="2208240"/>
              <a:ext cx="262440" cy="897120"/>
            </a:xfrm>
            <a:custGeom>
              <a:avLst/>
              <a:gdLst/>
              <a:ahLst/>
              <a:rect l="0" t="0" r="r" b="b"/>
              <a:pathLst>
                <a:path fill="none" w="729" h="2492">
                  <a:moveTo>
                    <a:pt x="725" y="2492"/>
                  </a:moveTo>
                  <a:lnTo>
                    <a:pt x="729" y="2168"/>
                  </a:lnTo>
                  <a:lnTo>
                    <a:pt x="711" y="1955"/>
                  </a:lnTo>
                  <a:lnTo>
                    <a:pt x="700" y="1686"/>
                  </a:lnTo>
                  <a:lnTo>
                    <a:pt x="682" y="1482"/>
                  </a:lnTo>
                  <a:lnTo>
                    <a:pt x="656" y="1251"/>
                  </a:lnTo>
                  <a:lnTo>
                    <a:pt x="604" y="991"/>
                  </a:lnTo>
                  <a:lnTo>
                    <a:pt x="561" y="815"/>
                  </a:lnTo>
                  <a:lnTo>
                    <a:pt x="506" y="620"/>
                  </a:lnTo>
                  <a:lnTo>
                    <a:pt x="430" y="389"/>
                  </a:lnTo>
                  <a:lnTo>
                    <a:pt x="352" y="148"/>
                  </a:lnTo>
                  <a:lnTo>
                    <a:pt x="278" y="92"/>
                  </a:lnTo>
                  <a:lnTo>
                    <a:pt x="195" y="0"/>
                  </a:lnTo>
                  <a:lnTo>
                    <a:pt x="140" y="64"/>
                  </a:lnTo>
                  <a:lnTo>
                    <a:pt x="86" y="120"/>
                  </a:lnTo>
                  <a:lnTo>
                    <a:pt x="44" y="213"/>
                  </a:lnTo>
                  <a:lnTo>
                    <a:pt x="0" y="370"/>
                  </a:lnTo>
                </a:path>
              </a:pathLst>
            </a:custGeom>
            <a:ln w="12600">
              <a:solidFill>
                <a:srgbClr val="9f9f9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 name=""/>
          <p:cNvSpPr txBox="1"/>
          <p:nvPr/>
        </p:nvSpPr>
        <p:spPr>
          <a:xfrm>
            <a:off x="3886200" y="2209680"/>
            <a:ext cx="5181480" cy="42670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Обрезание душевных уз (привязанности к человеку и/или вещам) очень важный аспект служения в этом разделе.</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Иисус предлагает нам полную свободу, если мы отречемся и обрежем все неправильные душевные связ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6000" spc="-1" strike="noStrike">
                <a:solidFill>
                  <a:srgbClr val="fafd00"/>
                </a:solidFill>
                <a:latin typeface="Arial Cyr"/>
                <a:ea typeface="Arial Cyr"/>
              </a:rPr>
              <a:t>Слово Божье</a:t>
            </a:r>
            <a:endParaRPr b="0" lang="en-US" sz="6000" spc="-1" strike="noStrike">
              <a:solidFill>
                <a:srgbClr val="000000"/>
              </a:solidFill>
              <a:latin typeface="Arial"/>
            </a:endParaRPr>
          </a:p>
        </p:txBody>
      </p:sp>
      <p:sp>
        <p:nvSpPr>
          <p:cNvPr id="96" name=""/>
          <p:cNvSpPr txBox="1"/>
          <p:nvPr/>
        </p:nvSpPr>
        <p:spPr>
          <a:xfrm>
            <a:off x="304920" y="1828800"/>
            <a:ext cx="8534520" cy="4210560"/>
          </a:xfrm>
          <a:prstGeom prst="rect">
            <a:avLst/>
          </a:prstGeom>
          <a:noFill/>
          <a:ln w="0">
            <a:noFill/>
          </a:ln>
        </p:spPr>
        <p:txBody>
          <a:bodyPr lIns="0" rIns="0" tIns="0" bIns="0" anchor="t">
            <a:noAutofit/>
          </a:bodyPr>
          <a:p>
            <a:pPr marL="343080" indent="-343080" algn="ctr">
              <a:lnSpc>
                <a:spcPct val="100000"/>
              </a:lnSpc>
              <a:spcBef>
                <a:spcPts val="479"/>
              </a:spcBef>
            </a:pPr>
            <a:r>
              <a:rPr b="1" i="1" lang="en-US" sz="4000" spc="-1" strike="noStrike">
                <a:solidFill>
                  <a:srgbClr val="ffffff"/>
                </a:solidFill>
                <a:latin typeface="Arial Cyr"/>
                <a:ea typeface="Arial Cyr"/>
              </a:rPr>
              <a:t>  </a:t>
            </a:r>
            <a:r>
              <a:rPr b="1" i="1" lang="en-US" sz="3600" spc="-1" strike="noStrike">
                <a:solidFill>
                  <a:srgbClr val="ffffff"/>
                </a:solidFill>
                <a:latin typeface="Arial Cyr"/>
                <a:ea typeface="Arial Cyr"/>
              </a:rPr>
              <a:t>Сам же Бог мира да освятит</a:t>
            </a:r>
            <a:br>
              <a:rPr sz="3600"/>
            </a:br>
            <a:r>
              <a:rPr b="1" i="1" lang="en-US" sz="3600" spc="-1" strike="noStrike">
                <a:solidFill>
                  <a:srgbClr val="ffffff"/>
                </a:solidFill>
                <a:latin typeface="Arial Cyr"/>
                <a:ea typeface="Arial Cyr"/>
              </a:rPr>
              <a:t>вас во всей полноте,</a:t>
            </a:r>
            <a:br>
              <a:rPr sz="3600"/>
            </a:br>
            <a:r>
              <a:rPr b="1" i="1" lang="en-US" sz="3600" spc="-1" strike="noStrike">
                <a:solidFill>
                  <a:srgbClr val="ffffff"/>
                </a:solidFill>
                <a:latin typeface="Arial Cyr"/>
                <a:ea typeface="Arial Cyr"/>
              </a:rPr>
              <a:t>и ваш дух и душа и тело</a:t>
            </a:r>
            <a:br>
              <a:rPr sz="3600"/>
            </a:br>
            <a:r>
              <a:rPr b="1" i="1" lang="en-US" sz="3600" spc="-1" strike="noStrike">
                <a:solidFill>
                  <a:srgbClr val="ffffff"/>
                </a:solidFill>
                <a:latin typeface="Arial Cyr"/>
                <a:ea typeface="Arial Cyr"/>
              </a:rPr>
              <a:t>во всей целостности да сохраниться без порока в пришествие Господа нашего Иисуса Христа.</a:t>
            </a:r>
            <a:r>
              <a:rPr b="1" lang="en-US" sz="4000" spc="-1" strike="noStrike">
                <a:solidFill>
                  <a:srgbClr val="ffffff"/>
                </a:solidFill>
                <a:latin typeface="Arial Cyr"/>
                <a:ea typeface="Arial Cyr"/>
              </a:rPr>
              <a:t> </a:t>
            </a:r>
            <a:endParaRPr b="0" lang="en-US" sz="4000" spc="-1" strike="noStrike">
              <a:solidFill>
                <a:srgbClr val="000000"/>
              </a:solidFill>
              <a:latin typeface="Arial"/>
            </a:endParaRPr>
          </a:p>
          <a:p>
            <a:pPr marL="343080" indent="-343080" algn="r">
              <a:lnSpc>
                <a:spcPct val="100000"/>
              </a:lnSpc>
              <a:spcBef>
                <a:spcPts val="479"/>
              </a:spcBef>
            </a:pPr>
            <a:r>
              <a:rPr b="1" lang="en-US" sz="3200" spc="-1" strike="noStrike">
                <a:solidFill>
                  <a:srgbClr val="ffffff"/>
                </a:solidFill>
                <a:latin typeface="Arial Cyr"/>
                <a:ea typeface="Arial Cyr"/>
              </a:rPr>
              <a:t>– </a:t>
            </a:r>
            <a:r>
              <a:rPr b="1" lang="en-US" sz="3200" spc="-1" strike="noStrike">
                <a:solidFill>
                  <a:srgbClr val="ffffff"/>
                </a:solidFill>
                <a:latin typeface="Arial Cyr"/>
                <a:ea typeface="Arial Cyr"/>
              </a:rPr>
              <a:t>1 Фессалоникийцам 5: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6320" y="533520"/>
            <a:ext cx="6248520" cy="21031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Cyr"/>
                <a:ea typeface="Arial Cyr"/>
              </a:rPr>
              <a:t>Сейчас уделите время для поверки возможных проблемных </a:t>
            </a:r>
            <a:br>
              <a:rPr sz="3600"/>
            </a:br>
            <a:r>
              <a:rPr b="1" lang="en-US" sz="3600" spc="-1" strike="noStrike">
                <a:solidFill>
                  <a:srgbClr val="fafd00"/>
                </a:solidFill>
                <a:latin typeface="Arial Cyr"/>
                <a:ea typeface="Arial Cyr"/>
              </a:rPr>
              <a:t>областей</a:t>
            </a:r>
            <a:r>
              <a:rPr b="1" lang="en-US" sz="4000" spc="-1" strike="noStrike">
                <a:solidFill>
                  <a:srgbClr val="fafd00"/>
                </a:solidFill>
                <a:latin typeface="Arial Cyr"/>
                <a:ea typeface="Arial Cyr"/>
              </a:rPr>
              <a:t> </a:t>
            </a:r>
            <a:endParaRPr b="0" lang="en-US" sz="4000" spc="-1" strike="noStrike">
              <a:solidFill>
                <a:srgbClr val="000000"/>
              </a:solidFill>
              <a:latin typeface="Arial"/>
            </a:endParaRPr>
          </a:p>
        </p:txBody>
      </p:sp>
      <p:sp>
        <p:nvSpPr>
          <p:cNvPr id="98" name=""/>
          <p:cNvSpPr txBox="1"/>
          <p:nvPr/>
        </p:nvSpPr>
        <p:spPr>
          <a:xfrm>
            <a:off x="685800" y="2819520"/>
            <a:ext cx="8001000" cy="35812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120000"/>
              <a:buFont typeface="Monotype Sorts"/>
              <a:buChar char=""/>
            </a:pPr>
            <a:r>
              <a:rPr b="1" lang="en-US" sz="3200" spc="-1" strike="noStrike">
                <a:solidFill>
                  <a:srgbClr val="ffffff"/>
                </a:solidFill>
                <a:latin typeface="Arial Cyr"/>
                <a:ea typeface="Arial Cyr"/>
              </a:rPr>
              <a:t>Отметьте галочкой соответствующие квадратики.</a:t>
            </a:r>
            <a:endParaRPr b="0" lang="en-US" sz="3200" spc="-1" strike="noStrike">
              <a:solidFill>
                <a:srgbClr val="000000"/>
              </a:solidFill>
              <a:latin typeface="Arial"/>
            </a:endParaRPr>
          </a:p>
          <a:p>
            <a:pPr marL="343080" indent="-343080">
              <a:lnSpc>
                <a:spcPct val="100000"/>
              </a:lnSpc>
              <a:spcBef>
                <a:spcPts val="479"/>
              </a:spcBef>
              <a:buClr>
                <a:srgbClr val="fafd00"/>
              </a:buClr>
              <a:buSzPct val="120000"/>
              <a:buFont typeface="Monotype Sorts"/>
              <a:buChar char=""/>
            </a:pPr>
            <a:r>
              <a:rPr b="1" lang="en-US" sz="3200" spc="-1" strike="noStrike">
                <a:solidFill>
                  <a:srgbClr val="ffffff"/>
                </a:solidFill>
                <a:latin typeface="Arial Cyr"/>
                <a:ea typeface="Arial Cyr"/>
              </a:rPr>
              <a:t>Напишите имена людей, с которыми вы имели незаконные сексуальные отношения.</a:t>
            </a:r>
            <a:endParaRPr b="0" lang="en-US" sz="3200" spc="-1" strike="noStrike">
              <a:solidFill>
                <a:srgbClr val="000000"/>
              </a:solidFill>
              <a:latin typeface="Arial"/>
            </a:endParaRPr>
          </a:p>
          <a:p>
            <a:pPr lvl="1" marL="743040" indent="-285840">
              <a:lnSpc>
                <a:spcPct val="100000"/>
              </a:lnSpc>
              <a:spcBef>
                <a:spcPts val="479"/>
              </a:spcBef>
              <a:buClr>
                <a:srgbClr val="ffffff"/>
              </a:buClr>
              <a:buSzPct val="120000"/>
              <a:buFont typeface="Monotype Sorts"/>
              <a:buChar char=""/>
            </a:pPr>
            <a:r>
              <a:rPr b="1" lang="en-US" sz="2800" spc="-1" strike="noStrike">
                <a:solidFill>
                  <a:srgbClr val="ffffff"/>
                </a:solidFill>
                <a:latin typeface="Arial Cyr"/>
                <a:ea typeface="Arial Cyr"/>
              </a:rPr>
              <a:t>Это позволит во имя Иисуса обрезать конкретные душевные узы.</a:t>
            </a:r>
            <a:endParaRPr b="0" lang="en-US" sz="2800" spc="-1" strike="noStrike">
              <a:solidFill>
                <a:srgbClr val="000000"/>
              </a:solidFill>
              <a:latin typeface="Arial"/>
            </a:endParaRPr>
          </a:p>
        </p:txBody>
      </p:sp>
      <p:sp>
        <p:nvSpPr>
          <p:cNvPr id="99" name=""/>
          <p:cNvSpPr/>
          <p:nvPr/>
        </p:nvSpPr>
        <p:spPr>
          <a:xfrm>
            <a:off x="6440400" y="274680"/>
            <a:ext cx="2333520" cy="2351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256440" y="90360"/>
            <a:ext cx="2517840" cy="2535120"/>
          </a:xfrm>
          <a:prstGeom prst="rect">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01" name=""/>
          <p:cNvSpPr/>
          <p:nvPr/>
        </p:nvSpPr>
        <p:spPr>
          <a:xfrm>
            <a:off x="6348240" y="228600"/>
            <a:ext cx="2796120" cy="2327760"/>
          </a:xfrm>
          <a:custGeom>
            <a:avLst/>
            <a:gdLst/>
            <a:ahLst/>
            <a:rect l="0" t="0" r="r" b="b"/>
            <a:pathLst>
              <a:path w="7767" h="6466">
                <a:moveTo>
                  <a:pt x="7767" y="961"/>
                </a:moveTo>
                <a:lnTo>
                  <a:pt x="7255" y="1150"/>
                </a:lnTo>
                <a:lnTo>
                  <a:pt x="6678" y="1534"/>
                </a:lnTo>
                <a:lnTo>
                  <a:pt x="5583" y="2307"/>
                </a:lnTo>
                <a:lnTo>
                  <a:pt x="3078" y="4737"/>
                </a:lnTo>
                <a:lnTo>
                  <a:pt x="2439" y="5443"/>
                </a:lnTo>
                <a:lnTo>
                  <a:pt x="1538" y="6466"/>
                </a:lnTo>
                <a:lnTo>
                  <a:pt x="1283" y="5765"/>
                </a:lnTo>
                <a:lnTo>
                  <a:pt x="895" y="5059"/>
                </a:lnTo>
                <a:lnTo>
                  <a:pt x="0" y="3396"/>
                </a:lnTo>
                <a:lnTo>
                  <a:pt x="0" y="3330"/>
                </a:lnTo>
                <a:lnTo>
                  <a:pt x="127" y="3202"/>
                </a:lnTo>
                <a:lnTo>
                  <a:pt x="383" y="2946"/>
                </a:lnTo>
                <a:lnTo>
                  <a:pt x="961" y="2307"/>
                </a:lnTo>
                <a:lnTo>
                  <a:pt x="1666" y="3713"/>
                </a:lnTo>
                <a:lnTo>
                  <a:pt x="1860" y="4097"/>
                </a:lnTo>
                <a:lnTo>
                  <a:pt x="2117" y="4675"/>
                </a:lnTo>
                <a:lnTo>
                  <a:pt x="3206" y="3330"/>
                </a:lnTo>
                <a:lnTo>
                  <a:pt x="5072" y="1278"/>
                </a:lnTo>
                <a:lnTo>
                  <a:pt x="5968" y="577"/>
                </a:lnTo>
                <a:lnTo>
                  <a:pt x="6484" y="194"/>
                </a:lnTo>
                <a:lnTo>
                  <a:pt x="6867" y="0"/>
                </a:lnTo>
                <a:lnTo>
                  <a:pt x="7445" y="511"/>
                </a:lnTo>
                <a:lnTo>
                  <a:pt x="7767" y="961"/>
                </a:lnTo>
                <a:close/>
              </a:path>
            </a:pathLst>
          </a:custGeom>
          <a:solidFill>
            <a:srgbClr val="de0011"/>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76320" y="533520"/>
            <a:ext cx="6248520" cy="17053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Cyr"/>
                <a:ea typeface="Arial Cyr"/>
              </a:rPr>
              <a:t>Соберитесь в группы для служения и проверьте отмеченные области</a:t>
            </a:r>
            <a:r>
              <a:rPr b="1" lang="en-US" sz="4800" spc="-1" strike="noStrike">
                <a:solidFill>
                  <a:srgbClr val="fafd00"/>
                </a:solidFill>
                <a:latin typeface="Arial Cyr"/>
                <a:ea typeface="Arial Cyr"/>
              </a:rPr>
              <a:t> </a:t>
            </a:r>
            <a:endParaRPr b="0" lang="en-US" sz="4800" spc="-1" strike="noStrike">
              <a:solidFill>
                <a:srgbClr val="000000"/>
              </a:solidFill>
              <a:latin typeface="Arial"/>
            </a:endParaRPr>
          </a:p>
        </p:txBody>
      </p:sp>
      <p:sp>
        <p:nvSpPr>
          <p:cNvPr id="103" name=""/>
          <p:cNvSpPr txBox="1"/>
          <p:nvPr/>
        </p:nvSpPr>
        <p:spPr>
          <a:xfrm>
            <a:off x="685800" y="2666880"/>
            <a:ext cx="8001000" cy="34290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120000"/>
              <a:buFont typeface="Monotype Sorts"/>
              <a:buChar char=""/>
            </a:pPr>
            <a:r>
              <a:rPr b="1" lang="en-US" sz="3200" spc="-1" strike="noStrike">
                <a:solidFill>
                  <a:srgbClr val="ffffff"/>
                </a:solidFill>
                <a:latin typeface="Arial Cyr"/>
                <a:ea typeface="Arial Cyr"/>
              </a:rPr>
              <a:t>Отметьте галочкой соответствующие квадратики.</a:t>
            </a:r>
            <a:endParaRPr b="0" lang="en-US" sz="3200" spc="-1" strike="noStrike">
              <a:solidFill>
                <a:srgbClr val="000000"/>
              </a:solidFill>
              <a:latin typeface="Arial"/>
            </a:endParaRPr>
          </a:p>
          <a:p>
            <a:pPr marL="343080" indent="-343080">
              <a:lnSpc>
                <a:spcPct val="100000"/>
              </a:lnSpc>
              <a:spcBef>
                <a:spcPts val="479"/>
              </a:spcBef>
              <a:buClr>
                <a:srgbClr val="fafd00"/>
              </a:buClr>
              <a:buSzPct val="120000"/>
              <a:buFont typeface="Monotype Sorts"/>
              <a:buChar char=""/>
            </a:pPr>
            <a:r>
              <a:rPr b="1" lang="en-US" sz="3200" spc="-1" strike="noStrike">
                <a:solidFill>
                  <a:srgbClr val="ffffff"/>
                </a:solidFill>
                <a:latin typeface="Arial Cyr"/>
                <a:ea typeface="Arial Cyr"/>
              </a:rPr>
              <a:t>Напишите имена людей, с которыми вы имели незаконные сексуальные отношения.</a:t>
            </a:r>
            <a:endParaRPr b="0" lang="en-US" sz="3200" spc="-1" strike="noStrike">
              <a:solidFill>
                <a:srgbClr val="000000"/>
              </a:solidFill>
              <a:latin typeface="Arial"/>
            </a:endParaRPr>
          </a:p>
          <a:p>
            <a:pPr lvl="1" marL="743040" indent="-285840">
              <a:lnSpc>
                <a:spcPct val="100000"/>
              </a:lnSpc>
              <a:spcBef>
                <a:spcPts val="479"/>
              </a:spcBef>
              <a:buClr>
                <a:srgbClr val="ffffff"/>
              </a:buClr>
              <a:buSzPct val="120000"/>
              <a:buFont typeface="Monotype Sorts"/>
              <a:buChar char=""/>
            </a:pPr>
            <a:r>
              <a:rPr b="1" lang="en-US" sz="2800" spc="-1" strike="noStrike">
                <a:solidFill>
                  <a:srgbClr val="ffffff"/>
                </a:solidFill>
                <a:latin typeface="Arial Cyr"/>
                <a:ea typeface="Arial Cyr"/>
              </a:rPr>
              <a:t>Это позволит во имя Иисуса обрезать конкретные душевные узы.</a:t>
            </a:r>
            <a:endParaRPr b="0" lang="en-US" sz="2800" spc="-1" strike="noStrike">
              <a:solidFill>
                <a:srgbClr val="000000"/>
              </a:solidFill>
              <a:latin typeface="Arial"/>
            </a:endParaRPr>
          </a:p>
        </p:txBody>
      </p:sp>
      <p:sp>
        <p:nvSpPr>
          <p:cNvPr id="104" name=""/>
          <p:cNvSpPr/>
          <p:nvPr/>
        </p:nvSpPr>
        <p:spPr>
          <a:xfrm>
            <a:off x="6440400" y="274680"/>
            <a:ext cx="2333520" cy="2351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6256440" y="90360"/>
            <a:ext cx="2517840" cy="2535120"/>
          </a:xfrm>
          <a:prstGeom prst="rect">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06" name=""/>
          <p:cNvSpPr/>
          <p:nvPr/>
        </p:nvSpPr>
        <p:spPr>
          <a:xfrm>
            <a:off x="6348240" y="228600"/>
            <a:ext cx="2796120" cy="2327760"/>
          </a:xfrm>
          <a:custGeom>
            <a:avLst/>
            <a:gdLst/>
            <a:ahLst/>
            <a:rect l="0" t="0" r="r" b="b"/>
            <a:pathLst>
              <a:path w="7767" h="6466">
                <a:moveTo>
                  <a:pt x="7767" y="961"/>
                </a:moveTo>
                <a:lnTo>
                  <a:pt x="7255" y="1150"/>
                </a:lnTo>
                <a:lnTo>
                  <a:pt x="6678" y="1534"/>
                </a:lnTo>
                <a:lnTo>
                  <a:pt x="5583" y="2307"/>
                </a:lnTo>
                <a:lnTo>
                  <a:pt x="3078" y="4737"/>
                </a:lnTo>
                <a:lnTo>
                  <a:pt x="2439" y="5443"/>
                </a:lnTo>
                <a:lnTo>
                  <a:pt x="1538" y="6466"/>
                </a:lnTo>
                <a:lnTo>
                  <a:pt x="1283" y="5765"/>
                </a:lnTo>
                <a:lnTo>
                  <a:pt x="895" y="5059"/>
                </a:lnTo>
                <a:lnTo>
                  <a:pt x="0" y="3396"/>
                </a:lnTo>
                <a:lnTo>
                  <a:pt x="0" y="3330"/>
                </a:lnTo>
                <a:lnTo>
                  <a:pt x="127" y="3202"/>
                </a:lnTo>
                <a:lnTo>
                  <a:pt x="383" y="2946"/>
                </a:lnTo>
                <a:lnTo>
                  <a:pt x="961" y="2307"/>
                </a:lnTo>
                <a:lnTo>
                  <a:pt x="1666" y="3713"/>
                </a:lnTo>
                <a:lnTo>
                  <a:pt x="1860" y="4097"/>
                </a:lnTo>
                <a:lnTo>
                  <a:pt x="2117" y="4675"/>
                </a:lnTo>
                <a:lnTo>
                  <a:pt x="3206" y="3330"/>
                </a:lnTo>
                <a:lnTo>
                  <a:pt x="5072" y="1278"/>
                </a:lnTo>
                <a:lnTo>
                  <a:pt x="5968" y="577"/>
                </a:lnTo>
                <a:lnTo>
                  <a:pt x="6484" y="194"/>
                </a:lnTo>
                <a:lnTo>
                  <a:pt x="6867" y="0"/>
                </a:lnTo>
                <a:lnTo>
                  <a:pt x="7445" y="511"/>
                </a:lnTo>
                <a:lnTo>
                  <a:pt x="7767" y="961"/>
                </a:lnTo>
                <a:close/>
              </a:path>
            </a:pathLst>
          </a:custGeom>
          <a:solidFill>
            <a:srgbClr val="de0011"/>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762120" y="2819520"/>
            <a:ext cx="7772400" cy="3609360"/>
          </a:xfrm>
          <a:prstGeom prst="rect">
            <a:avLst/>
          </a:prstGeom>
          <a:noFill/>
          <a:ln w="0">
            <a:noFill/>
          </a:ln>
        </p:spPr>
        <p:txBody>
          <a:bodyPr lIns="0" rIns="0" tIns="0" bIns="0" anchor="t">
            <a:noAutofit/>
          </a:bodyPr>
          <a:p>
            <a:pPr algn="ctr">
              <a:lnSpc>
                <a:spcPct val="100000"/>
              </a:lnSpc>
            </a:pPr>
            <a:r>
              <a:rPr b="1" lang="en-US" sz="6000" spc="-1" strike="noStrike">
                <a:solidFill>
                  <a:srgbClr val="ffff66"/>
                </a:solidFill>
                <a:latin typeface="Arial Cyr"/>
                <a:ea typeface="Arial Cyr"/>
              </a:rPr>
              <a:t>Краткое свидетельство</a:t>
            </a:r>
            <a:r>
              <a:rPr b="1" lang="en-US" sz="5400" spc="-1" strike="noStrike">
                <a:solidFill>
                  <a:srgbClr val="fafd00"/>
                </a:solidFill>
                <a:latin typeface="Arial Cyr"/>
                <a:ea typeface="Arial Cyr"/>
              </a:rPr>
              <a:t> </a:t>
            </a:r>
            <a:br>
              <a:rPr sz="1800"/>
            </a:br>
            <a:br>
              <a:rPr sz="1800"/>
            </a:br>
            <a:r>
              <a:rPr b="1" lang="en-US" sz="4400" spc="-1" strike="noStrike">
                <a:solidFill>
                  <a:srgbClr val="fafd00"/>
                </a:solidFill>
                <a:latin typeface="Arial Cyr"/>
                <a:ea typeface="Arial Cyr"/>
              </a:rPr>
              <a:t> </a:t>
            </a:r>
            <a:r>
              <a:rPr b="1" lang="en-US" sz="3600" spc="-1" strike="noStrike">
                <a:solidFill>
                  <a:srgbClr val="ffffff"/>
                </a:solidFill>
                <a:latin typeface="Arial Cyr"/>
                <a:ea typeface="Arial Cyr"/>
              </a:rPr>
              <a:t>Вслед за которым будут названы возможные сферы угнете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600" y="228600"/>
            <a:ext cx="8686800" cy="12193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Cyr"/>
                <a:ea typeface="Arial Cyr"/>
              </a:rPr>
              <a:t>Возможные сферы угнетения</a:t>
            </a:r>
            <a:endParaRPr b="0" lang="en-US" sz="4400" spc="-1" strike="noStrike">
              <a:solidFill>
                <a:srgbClr val="000000"/>
              </a:solidFill>
              <a:latin typeface="Arial"/>
            </a:endParaRPr>
          </a:p>
        </p:txBody>
      </p:sp>
      <p:sp>
        <p:nvSpPr>
          <p:cNvPr id="109" name=""/>
          <p:cNvSpPr txBox="1"/>
          <p:nvPr/>
        </p:nvSpPr>
        <p:spPr>
          <a:xfrm>
            <a:off x="685800" y="1523880"/>
            <a:ext cx="8001000" cy="45295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Похоть</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Низкая самооценка </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Чувственность </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Извращения </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Самоудовлетворение </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Любопытство</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Ложное чувство вины</a:t>
            </a:r>
            <a:br>
              <a:rPr sz="3200"/>
            </a:br>
            <a:r>
              <a:rPr b="1" lang="en-US" sz="3200" spc="-1" strike="noStrike">
                <a:solidFill>
                  <a:srgbClr val="ffffff"/>
                </a:solidFill>
                <a:latin typeface="Arial Cyr"/>
                <a:ea typeface="Arial Cyr"/>
              </a:rPr>
              <a:t>(если человек был унижен)</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Рационализм</a:t>
            </a:r>
            <a:r>
              <a:rPr b="0" lang="en-US" sz="3200" spc="-1" strike="noStrike">
                <a:solidFill>
                  <a:srgbClr val="ffffff"/>
                </a:solidFill>
                <a:latin typeface="Times New Roman Cyr"/>
                <a:ea typeface="Times New Roman Cyr"/>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066680" y="4497480"/>
            <a:ext cx="7467480" cy="22860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Cyr"/>
                <a:ea typeface="Arial Cyr"/>
              </a:rPr>
              <a:t>Copyright © 1999 TOUCH Outreach Ministries.</a:t>
            </a:r>
            <a:endParaRPr b="0" lang="en-US" sz="2400" spc="-1" strike="noStrike">
              <a:solidFill>
                <a:srgbClr val="000000"/>
              </a:solidFill>
              <a:latin typeface="Arial"/>
            </a:endParaRPr>
          </a:p>
          <a:p>
            <a:pPr algn="ctr">
              <a:lnSpc>
                <a:spcPct val="100000"/>
              </a:lnSpc>
            </a:pPr>
            <a:r>
              <a:rPr b="0" lang="en-US" sz="2000" spc="-1" strike="noStrike">
                <a:solidFill>
                  <a:srgbClr val="ffffff"/>
                </a:solidFill>
                <a:latin typeface="Arial Cyr"/>
                <a:ea typeface="Arial Cyr"/>
              </a:rPr>
              <a:t>Лидеры церквей, использующие материалы семинара</a:t>
            </a:r>
            <a:br>
              <a:rPr sz="2000"/>
            </a:br>
            <a:r>
              <a:rPr b="0" lang="en-US" sz="2000" spc="-1" strike="noStrike">
                <a:solidFill>
                  <a:srgbClr val="ffffff"/>
                </a:solidFill>
                <a:latin typeface="Arial Cyr"/>
                <a:ea typeface="Arial Cyr"/>
              </a:rPr>
              <a:t>“Встреча с Богом”, подготовленные служением TOUCH могут использовать эту PowerPoint-презентацию в рамках своей поместной церкви. </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Arial Cyr"/>
                <a:ea typeface="Arial Cyr"/>
              </a:rPr>
              <a:t>Однако, никакая ее часть не может быть распространена за пределами вашей поместной церкв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2286000"/>
            <a:ext cx="7772400" cy="2043000"/>
          </a:xfrm>
          <a:prstGeom prst="rect">
            <a:avLst/>
          </a:prstGeom>
          <a:noFill/>
          <a:ln w="0">
            <a:noFill/>
          </a:ln>
        </p:spPr>
        <p:txBody>
          <a:bodyPr lIns="0" rIns="0" tIns="0" bIns="0" anchor="t">
            <a:noAutofit/>
          </a:bodyPr>
          <a:p>
            <a:pPr algn="ctr">
              <a:lnSpc>
                <a:spcPct val="100000"/>
              </a:lnSpc>
            </a:pPr>
            <a:r>
              <a:rPr b="1" lang="en-US" sz="7200" spc="-1" strike="noStrike">
                <a:solidFill>
                  <a:srgbClr val="fafd00"/>
                </a:solidFill>
                <a:latin typeface="Arial Cyr"/>
                <a:ea typeface="Arial Cyr"/>
              </a:rPr>
              <a:t>От нечистоты</a:t>
            </a:r>
            <a:br>
              <a:rPr sz="7200"/>
            </a:br>
            <a:r>
              <a:rPr b="1" lang="en-US" sz="7200" spc="-1" strike="noStrike">
                <a:solidFill>
                  <a:srgbClr val="fafd00"/>
                </a:solidFill>
                <a:latin typeface="Arial Cyr"/>
                <a:ea typeface="Arial Cyr"/>
              </a:rPr>
              <a:t>к чистоте</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Arial Cyr"/>
                <a:ea typeface="Arial Cyr"/>
              </a:rPr>
              <a:t>Благой дар Бога</a:t>
            </a:r>
            <a:endParaRPr b="0" lang="en-US" sz="4800" spc="-1" strike="noStrike">
              <a:solidFill>
                <a:srgbClr val="000000"/>
              </a:solidFill>
              <a:latin typeface="Arial"/>
            </a:endParaRPr>
          </a:p>
        </p:txBody>
      </p:sp>
      <p:sp>
        <p:nvSpPr>
          <p:cNvPr id="55" name=""/>
          <p:cNvSpPr txBox="1"/>
          <p:nvPr/>
        </p:nvSpPr>
        <p:spPr>
          <a:xfrm>
            <a:off x="380880" y="17524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Наша сексуальность — это прекрасный дар от Господа. </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CP1251"/>
              <a:buChar char=""/>
            </a:pPr>
            <a:r>
              <a:rPr b="1" lang="en-US" sz="2800" spc="-1" strike="noStrike">
                <a:solidFill>
                  <a:srgbClr val="ffffff"/>
                </a:solidFill>
                <a:latin typeface="Arial Cyr"/>
                <a:ea typeface="Arial Cyr"/>
              </a:rPr>
              <a:t>Мы должны хранить этот дар чистым и святым. </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Потому что наша сексуальность — это мощная составляющая нашего существа, того, какими нас сотворил Господь, и часто она используется не в том направле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600" y="228600"/>
            <a:ext cx="4038480" cy="320040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Cyr"/>
                <a:ea typeface="Arial Cyr"/>
              </a:rPr>
              <a:t>Красивая река</a:t>
            </a:r>
            <a:endParaRPr b="0" lang="en-US" sz="5400" spc="-1" strike="noStrike">
              <a:solidFill>
                <a:srgbClr val="000000"/>
              </a:solidFill>
              <a:latin typeface="Arial"/>
            </a:endParaRPr>
          </a:p>
        </p:txBody>
      </p:sp>
      <p:pic>
        <p:nvPicPr>
          <p:cNvPr id="57" name="" descr=""/>
          <p:cNvPicPr/>
          <p:nvPr/>
        </p:nvPicPr>
        <p:blipFill>
          <a:blip r:embed="rId1"/>
          <a:stretch/>
        </p:blipFill>
        <p:spPr>
          <a:xfrm>
            <a:off x="4429080" y="457200"/>
            <a:ext cx="4194000" cy="2819520"/>
          </a:xfrm>
          <a:prstGeom prst="rect">
            <a:avLst/>
          </a:prstGeom>
          <a:ln w="0">
            <a:noFill/>
          </a:ln>
        </p:spPr>
      </p:pic>
      <p:sp>
        <p:nvSpPr>
          <p:cNvPr id="58" name=""/>
          <p:cNvSpPr txBox="1"/>
          <p:nvPr/>
        </p:nvSpPr>
        <p:spPr>
          <a:xfrm>
            <a:off x="304920" y="3505320"/>
            <a:ext cx="8610480" cy="2103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Наша сексуальность подобна прекрасной реке.</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Эта река красива, когда она течет в пределах своих берегов.</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Но она же становится разрушительным половодьем, когда выходит за свои границ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0880" y="228600"/>
            <a:ext cx="8381880" cy="121932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Arial Cyr"/>
                <a:ea typeface="Arial Cyr"/>
              </a:rPr>
              <a:t>Чистота сердца и мыслей</a:t>
            </a:r>
            <a:endParaRPr b="0" lang="en-US" sz="4800" spc="-1" strike="noStrike">
              <a:solidFill>
                <a:srgbClr val="000000"/>
              </a:solidFill>
              <a:latin typeface="Arial"/>
            </a:endParaRPr>
          </a:p>
        </p:txBody>
      </p:sp>
      <p:sp>
        <p:nvSpPr>
          <p:cNvPr id="60"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Бог призывает нас к чистоте тела, сердца и разума.</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i="1" lang="en-US" sz="3200" spc="-1" strike="noStrike">
                <a:solidFill>
                  <a:srgbClr val="ffffff"/>
                </a:solidFill>
                <a:latin typeface="Arial Cyr"/>
                <a:ea typeface="Arial Cyr"/>
              </a:rPr>
              <a:t>Будьте святы, ибо Я Господь, Бог ваш.</a:t>
            </a:r>
            <a:r>
              <a:rPr b="1" lang="en-US" sz="3200" spc="-1" strike="noStrike">
                <a:solidFill>
                  <a:srgbClr val="ffffff"/>
                </a:solidFill>
                <a:latin typeface="Arial Cyr"/>
                <a:ea typeface="Arial Cyr"/>
              </a:rPr>
              <a:t> (Левит 20:7)</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i="1" lang="en-US" sz="3200" spc="-1" strike="noStrike">
                <a:solidFill>
                  <a:srgbClr val="ffffff"/>
                </a:solidFill>
                <a:latin typeface="Arial Cyr"/>
                <a:ea typeface="Arial Cyr"/>
              </a:rPr>
              <a:t>Не положу пред очами своими вещи непотребной.</a:t>
            </a:r>
            <a:br>
              <a:rPr sz="1800"/>
            </a:br>
            <a:r>
              <a:rPr b="1" lang="en-US" sz="3200" spc="-1" strike="noStrike">
                <a:solidFill>
                  <a:srgbClr val="ffffff"/>
                </a:solidFill>
                <a:latin typeface="Arial Cyr"/>
                <a:ea typeface="Arial Cyr"/>
              </a:rPr>
              <a:t>( Псалом 1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28600"/>
            <a:ext cx="8305920" cy="121932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Arial Cyr"/>
                <a:ea typeface="Arial Cyr"/>
              </a:rPr>
              <a:t>Чистота сердца и мыслей</a:t>
            </a:r>
            <a:endParaRPr b="0" lang="en-US" sz="4800" spc="-1" strike="noStrike">
              <a:solidFill>
                <a:srgbClr val="000000"/>
              </a:solidFill>
              <a:latin typeface="Arial"/>
            </a:endParaRPr>
          </a:p>
        </p:txBody>
      </p:sp>
      <p:sp>
        <p:nvSpPr>
          <p:cNvPr id="62" name=""/>
          <p:cNvSpPr txBox="1"/>
          <p:nvPr/>
        </p:nvSpPr>
        <p:spPr>
          <a:xfrm>
            <a:off x="380880" y="1828800"/>
            <a:ext cx="84582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i="1" lang="en-US" sz="2800" spc="-1" strike="noStrike">
                <a:solidFill>
                  <a:srgbClr val="ffffff"/>
                </a:solidFill>
                <a:latin typeface="Arial Cyr"/>
                <a:ea typeface="Arial Cyr"/>
              </a:rPr>
              <a:t>Наконец, братья мои, что только истинно, что честно, что справедливо, что чисто, что любезно, что достославно, что только добродетель и похвала, о том помышляйте…</a:t>
            </a:r>
            <a:r>
              <a:rPr b="1" lang="en-US" sz="2800" spc="-1" strike="noStrike">
                <a:solidFill>
                  <a:srgbClr val="ffffff"/>
                </a:solidFill>
                <a:latin typeface="Arial Cyr"/>
                <a:ea typeface="Arial Cyr"/>
              </a:rPr>
              <a:t> (Филиппийцам 4:8)</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i="1" lang="en-US" sz="2800" spc="-1" strike="noStrike">
                <a:solidFill>
                  <a:srgbClr val="ffffff"/>
                </a:solidFill>
                <a:latin typeface="Arial Cyr"/>
                <a:ea typeface="Arial Cyr"/>
              </a:rPr>
              <a:t>... И Бог мира будет с вами.</a:t>
            </a:r>
            <a:br>
              <a:rPr sz="1800"/>
            </a:br>
            <a:r>
              <a:rPr b="1" lang="en-US" sz="2800" spc="-1" strike="noStrike">
                <a:solidFill>
                  <a:srgbClr val="ffffff"/>
                </a:solidFill>
                <a:latin typeface="Arial Cyr"/>
                <a:ea typeface="Arial Cyr"/>
              </a:rPr>
              <a:t>(Филиппийцам 4:9)</a:t>
            </a:r>
            <a:endParaRPr b="0" lang="en-US" sz="2800" spc="-1" strike="noStrike">
              <a:solidFill>
                <a:srgbClr val="000000"/>
              </a:solidFill>
              <a:latin typeface="Arial"/>
            </a:endParaRPr>
          </a:p>
          <a:p>
            <a:pPr lvl="1" marL="743040" indent="-285840">
              <a:lnSpc>
                <a:spcPct val="100000"/>
              </a:lnSpc>
              <a:spcBef>
                <a:spcPts val="479"/>
              </a:spcBef>
              <a:buClr>
                <a:srgbClr val="ffffff"/>
              </a:buClr>
              <a:buSzPct val="45000"/>
              <a:buFont typeface="CP1251"/>
              <a:buChar char=""/>
            </a:pPr>
            <a:r>
              <a:rPr b="1" lang="en-US" sz="2800" spc="-1" strike="noStrike">
                <a:solidFill>
                  <a:srgbClr val="ffffff"/>
                </a:solidFill>
                <a:latin typeface="Arial Cyr"/>
                <a:ea typeface="Arial Cyr"/>
              </a:rPr>
              <a:t>Когда мы живем в чистоте, у нас есть ми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228600"/>
            <a:ext cx="7772400" cy="852480"/>
          </a:xfrm>
          <a:prstGeom prst="rect">
            <a:avLst/>
          </a:prstGeom>
          <a:noFill/>
          <a:ln w="0">
            <a:noFill/>
          </a:ln>
        </p:spPr>
        <p:txBody>
          <a:bodyPr lIns="0" rIns="0" tIns="0" bIns="0" anchor="t">
            <a:noAutofit/>
          </a:bodyPr>
          <a:p>
            <a:pPr algn="ctr">
              <a:lnSpc>
                <a:spcPct val="100000"/>
              </a:lnSpc>
            </a:pPr>
            <a:r>
              <a:rPr b="1" lang="en-US" sz="6000" spc="-1" strike="noStrike">
                <a:solidFill>
                  <a:srgbClr val="fafd00"/>
                </a:solidFill>
                <a:latin typeface="Arial Cyr"/>
                <a:ea typeface="Arial Cyr"/>
              </a:rPr>
              <a:t>Ложь сатаны</a:t>
            </a:r>
            <a:endParaRPr b="0" lang="en-US" sz="6000" spc="-1" strike="noStrike">
              <a:solidFill>
                <a:srgbClr val="000000"/>
              </a:solidFill>
              <a:latin typeface="Arial"/>
            </a:endParaRPr>
          </a:p>
        </p:txBody>
      </p:sp>
      <p:pic>
        <p:nvPicPr>
          <p:cNvPr id="64" name="" descr=""/>
          <p:cNvPicPr/>
          <p:nvPr/>
        </p:nvPicPr>
        <p:blipFill>
          <a:blip r:embed="rId1"/>
          <a:stretch/>
        </p:blipFill>
        <p:spPr>
          <a:xfrm>
            <a:off x="152280" y="1546200"/>
            <a:ext cx="2666880" cy="2962440"/>
          </a:xfrm>
          <a:prstGeom prst="rect">
            <a:avLst/>
          </a:prstGeom>
          <a:ln w="0">
            <a:noFill/>
          </a:ln>
        </p:spPr>
      </p:pic>
      <p:sp>
        <p:nvSpPr>
          <p:cNvPr id="65" name=""/>
          <p:cNvSpPr txBox="1"/>
          <p:nvPr/>
        </p:nvSpPr>
        <p:spPr>
          <a:xfrm>
            <a:off x="3048120" y="1676520"/>
            <a:ext cx="6019920" cy="4495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Сатана говорит нам ,что мы должны “познать это”.</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Однако, Бог призывает нас к невинности. (1Кор. 14: 20)</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i="1" lang="en-US" sz="2800" spc="-1" strike="noStrike">
                <a:solidFill>
                  <a:srgbClr val="ffffff"/>
                </a:solidFill>
                <a:latin typeface="Arial Cyr"/>
                <a:ea typeface="Arial Cyr"/>
              </a:rPr>
              <a:t>Но желаю, чтобы вы были мудры на добро и просты на зло. </a:t>
            </a:r>
            <a:r>
              <a:rPr b="1" lang="en-US" sz="2800" spc="-1" strike="noStrike">
                <a:solidFill>
                  <a:srgbClr val="ffffff"/>
                </a:solidFill>
                <a:latin typeface="Arial Cyr"/>
                <a:ea typeface="Arial Cyr"/>
              </a:rPr>
              <a:t>(Рим. 16:19)</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Arial Cyr"/>
                <a:ea typeface="Arial Cyr"/>
              </a:rPr>
              <a:t>Мы часто верили лжи сатаны, позволяя его разрушению пробираться в наш разу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6000" spc="-1" strike="noStrike">
                <a:solidFill>
                  <a:srgbClr val="fafd00"/>
                </a:solidFill>
                <a:latin typeface="Arial Cyr"/>
                <a:ea typeface="Arial Cyr"/>
              </a:rPr>
              <a:t>Слово Божье</a:t>
            </a:r>
            <a:endParaRPr b="0" lang="en-US" sz="6000" spc="-1" strike="noStrike">
              <a:solidFill>
                <a:srgbClr val="000000"/>
              </a:solidFill>
              <a:latin typeface="Arial"/>
            </a:endParaRPr>
          </a:p>
        </p:txBody>
      </p:sp>
      <p:sp>
        <p:nvSpPr>
          <p:cNvPr id="67" name=""/>
          <p:cNvSpPr txBox="1"/>
          <p:nvPr/>
        </p:nvSpPr>
        <p:spPr>
          <a:xfrm>
            <a:off x="304920" y="1676520"/>
            <a:ext cx="8229600" cy="4267080"/>
          </a:xfrm>
          <a:prstGeom prst="rect">
            <a:avLst/>
          </a:prstGeom>
          <a:noFill/>
          <a:ln w="0">
            <a:noFill/>
          </a:ln>
        </p:spPr>
        <p:txBody>
          <a:bodyPr lIns="0" rIns="0" tIns="0" bIns="0" anchor="t">
            <a:noAutofit/>
          </a:bodyPr>
          <a:p>
            <a:pPr marL="343080" indent="-343080" algn="ctr">
              <a:lnSpc>
                <a:spcPct val="100000"/>
              </a:lnSpc>
              <a:spcBef>
                <a:spcPts val="479"/>
              </a:spcBef>
            </a:pPr>
            <a:r>
              <a:rPr b="1" i="1" lang="en-US" sz="4000" spc="-1" strike="noStrike">
                <a:solidFill>
                  <a:srgbClr val="ffffff"/>
                </a:solidFill>
                <a:latin typeface="Arial Cyr"/>
                <a:ea typeface="Arial Cyr"/>
              </a:rPr>
              <a:t>  </a:t>
            </a:r>
            <a:r>
              <a:rPr b="1" i="1" lang="en-US" sz="4000" spc="-1" strike="noStrike">
                <a:solidFill>
                  <a:srgbClr val="ffffff"/>
                </a:solidFill>
                <a:latin typeface="Arial Cyr"/>
                <a:ea typeface="Arial Cyr"/>
              </a:rPr>
              <a:t>А блуд и всякая нечистота</a:t>
            </a:r>
            <a:br>
              <a:rPr sz="4000"/>
            </a:br>
            <a:r>
              <a:rPr b="1" i="1" lang="en-US" sz="4000" spc="-1" strike="noStrike">
                <a:solidFill>
                  <a:srgbClr val="ffffff"/>
                </a:solidFill>
                <a:latin typeface="Arial Cyr"/>
                <a:ea typeface="Arial Cyr"/>
              </a:rPr>
              <a:t>и любостяжание не должны даже именоваться у вас, как прилично святым</a:t>
            </a:r>
            <a:r>
              <a:rPr b="1" i="1" lang="en-US" sz="4800" spc="-1" strike="noStrike">
                <a:solidFill>
                  <a:srgbClr val="ffffff"/>
                </a:solidFill>
                <a:latin typeface="Arial Cyr"/>
                <a:ea typeface="Arial Cyr"/>
              </a:rPr>
              <a:t>.</a:t>
            </a:r>
            <a:r>
              <a:rPr b="1" lang="en-US" sz="4000" spc="-1" strike="noStrike">
                <a:solidFill>
                  <a:srgbClr val="ffffff"/>
                </a:solidFill>
                <a:latin typeface="Arial Cyr"/>
                <a:ea typeface="Arial Cyr"/>
              </a:rPr>
              <a:t> </a:t>
            </a:r>
            <a:endParaRPr b="0" lang="en-US" sz="4000" spc="-1" strike="noStrike">
              <a:solidFill>
                <a:srgbClr val="000000"/>
              </a:solidFill>
              <a:latin typeface="Arial"/>
            </a:endParaRPr>
          </a:p>
          <a:p>
            <a:pPr marL="343080" indent="-343080" algn="r">
              <a:lnSpc>
                <a:spcPct val="100000"/>
              </a:lnSpc>
              <a:spcBef>
                <a:spcPts val="479"/>
              </a:spcBef>
            </a:pPr>
            <a:r>
              <a:rPr b="1" lang="en-US" sz="3200" spc="-1" strike="noStrike">
                <a:solidFill>
                  <a:srgbClr val="ffffff"/>
                </a:solidFill>
                <a:latin typeface="Arial Cyr"/>
                <a:ea typeface="Arial Cyr"/>
              </a:rPr>
              <a:t>– </a:t>
            </a:r>
            <a:r>
              <a:rPr b="1" lang="en-US" sz="3200" spc="-1" strike="noStrike">
                <a:solidFill>
                  <a:srgbClr val="ffffff"/>
                </a:solidFill>
                <a:latin typeface="Arial Cyr"/>
                <a:ea typeface="Arial Cyr"/>
              </a:rPr>
              <a:t>Ефесянам 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Cyr"/>
                <a:ea typeface="Arial Cyr"/>
              </a:rPr>
              <a:t>Душевные связи</a:t>
            </a:r>
            <a:endParaRPr b="0" lang="en-US" sz="5400" spc="-1" strike="noStrike">
              <a:solidFill>
                <a:srgbClr val="000000"/>
              </a:solidFill>
              <a:latin typeface="Arial"/>
            </a:endParaRPr>
          </a:p>
        </p:txBody>
      </p:sp>
      <p:sp>
        <p:nvSpPr>
          <p:cNvPr id="69" name=""/>
          <p:cNvSpPr txBox="1"/>
          <p:nvPr/>
        </p:nvSpPr>
        <p:spPr>
          <a:xfrm>
            <a:off x="914400" y="1905120"/>
            <a:ext cx="7391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Сексуальный союз создает единство. (1 Кор. 6:16)</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Это создано на благо в контексте брака.</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Arial Cyr"/>
                <a:ea typeface="Arial Cyr"/>
              </a:rPr>
              <a:t>Вне брака это создает узы (порабощение) и открывает двери демоническому влияни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Egli</dc:creator>
  <dc:description/>
  <dc:language>en-US</dc:language>
  <cp:lastModifiedBy>Jim Egli</cp:lastModifiedBy>
  <cp:revision>0</cp:revision>
  <dc:subject/>
  <dc:title>From Impure to Pure</dc:title>
</cp:coreProperties>
</file>